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9.jpeg" ContentType="image/jpeg"/>
  <Override PartName="/ppt/media/image11.png" ContentType="image/png"/>
  <Override PartName="/ppt/media/image6.wmf" ContentType="image/x-wmf"/>
  <Override PartName="/ppt/media/image37.jpeg" ContentType="image/jpeg"/>
  <Override PartName="/ppt/media/image30.png" ContentType="image/png"/>
  <Override PartName="/ppt/media/image10.jpeg" ContentType="image/jpeg"/>
  <Override PartName="/ppt/media/image31.gif" ContentType="image/gif"/>
  <Override PartName="/ppt/media/image28.png" ContentType="image/png"/>
  <Override PartName="/ppt/media/image38.jpeg" ContentType="image/jpe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.png" ContentType="image/png"/>
  <Override PartName="/ppt/media/image25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F0DC-39CF-4BF5-B005-9C47D78B6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1EC-4A77-4332-8E41-5B63D6C32C1C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 a global “break” in history? Why do we start he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1750 Evolution of ideas from Enlightenment and Absolut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s 1914 – Beginning of WWI (end of long) Shifts i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ld there be a better time period nam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9AE3-7A2E-460A-B901-5B5CD23045CF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D about migr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students’ l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migration of this time was between China and SE Asia     Asian and S.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00’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ured labor issues! Diaspor communities in SE Asia.  Population issues: China is looking for places/alternative…land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E206-3978-4103-B58D-8956AC9D2CFD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/Japan  DBQ and industrial revolution. Text books have good global perspectives.  IMPORTANT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74E-EE9F-40AF-B1FF-13D623AF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398-B275-4563-BDE2-F23149D5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88435-FF41-4D5D-A535-C93D07D2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8B7F6-AF4D-4E38-A9CE-5992E35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D9D13-B458-4AAF-A2F9-0647A56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82C4B-FC7E-4278-B901-F50570E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E6CF8-95E1-4410-8596-8E24EF1F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FF76E-A88F-42D5-8A2C-F94A0FEF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35972-9497-4F05-B001-81D7F86B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118B5-9FEB-411C-8B58-94DFD54E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C3C3A-8231-46CA-874A-8F26D83D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0A69B-11AA-4837-B7F1-6307D953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25E-CE6C-478D-A7EA-D8BDF3D3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01A68-580C-49EA-B3D5-9221E559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35906-68DD-43F0-AAC0-596578B9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2F955-90EA-439D-8B0F-58D19673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1EF26-6334-47A3-8AE5-27329B74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279BC-5B8D-4A71-9239-81A136E4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D4F97-4644-4E4C-A9AC-0D9F3D3A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A01B2-8EE7-46F2-A2F0-DD29E2D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9D514-3817-442D-945D-1937314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1850D-07B8-4748-88D0-4A6571E8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D09AB-37FE-4013-9A09-167A437B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A4C-B065-4FA3-AA33-6937F9CD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A351E-551A-4760-A2B9-0D1D7A27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43EAB-AEB0-4DD1-9603-96342C4B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BB93-8097-4F66-A1E2-F4F09A9D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79939-77C1-4A86-9AE0-B4B03BD6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BC827-511C-402B-BABC-097A152A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4851E-DDBF-4EBB-B8FF-3B60894F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8981A-0746-4EC6-8E53-F02E1195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78548-94E8-4065-8E61-9A4772B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83728-1C8A-4492-B97A-25410E6D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39CC5-57D2-493A-99EC-BA520A8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4E08-1327-40F2-8041-CA23C927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71469-AEBF-4627-93D1-4048BFD4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8E723-442B-4EA5-90C8-D25E07D0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04EEC-DAE9-4ACE-AC76-27FCA0E0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17924-6BB3-4098-9A98-339C7EFF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83F92-9157-4E6D-AE17-F316903B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6BF42-F2C7-48DE-919A-DAE663A0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25B22-8D80-4408-B256-8FADC02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331F4-BC57-4C45-8AA2-D06AD994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C6581-B6CC-41F2-889C-5A3B5977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6F5EA-2489-4A79-A527-A46CAEF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DF32-9856-4581-B60E-C5451F64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F1E2B-A5C3-444E-AAA1-DAB2624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5C440-D3CC-4F94-8B16-CA39EA3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AD984-5BAD-4AB7-A90F-9FDDA501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329E1-76C4-44E8-9C30-212CF8B9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8FAC7-285F-43ED-A081-BF3CE9BB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AF96E-073C-4A67-AEF7-31902CAB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CF170-EE0E-4785-8324-8795099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BF50F-4CDA-4B19-8294-E2912B67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44DC8-5B1B-4A85-B42D-48125C2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4B1D7-2745-429B-8503-485EE985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FDB0-829E-46DD-BA3E-65486EF7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9380D-6642-4B2F-9961-1DB93F24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C6DF5-022A-441E-B0B8-A66E2BC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4F9A8-3D55-4227-A092-495B3CA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A1A2A-018B-453B-AB9E-8161369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9D200-DEBA-421C-A35F-E4C5EF02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0A640-C087-4F73-AC78-45E1AE49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A8589-9FA0-4C0A-9B4B-E0F205B8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3D9EA-2BE2-451A-A557-DF0A6773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51FE1-20BB-420E-9731-5EA708F5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A0564-91A7-4CAD-8AE6-574D96AF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A7C-496F-41A3-88FE-61884E6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066A2-406E-4ADB-BDB7-553CD08D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8F51C-7422-4C43-9D0C-6E7FC7F9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3F9B5-DF65-4236-825A-F834A21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1BB77-FE8F-4DA6-BAF9-55886336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2487B-11DF-44E0-9C2B-60255365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92282-8335-47BD-9EEB-5F344BBD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04B18-8198-4C87-B2FF-21A7268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7C249-1A81-4418-AAF5-CFE05B82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A8634-A8D6-45F8-A08F-BA4FD269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C3184-C764-4CAA-9DD5-8B3AF548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09BB-5A9E-48A4-97A6-E7374D07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3FA15-EC41-41D0-BCD3-6023B34A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D30C8-C5CC-4D5A-8065-30FDB713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E8EF1-CBB3-4549-B272-50971B51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2A8AB-4B6F-415A-90E7-D1CF99F4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FAFD9-464F-456D-A84D-DD1926DD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BE828-F6C4-4E12-93AB-CF04891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03DB2-C802-4F4F-8BA2-B832FDD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1C98E-D03B-4268-8D1D-80D8658C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6B290-642D-47DC-9A5B-6E22F7B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D5EA1-E110-4580-8CB1-21779E7D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36DF-FF1C-4CA2-92B8-EB028F33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B1AFA-13A1-4B54-9F60-D5844B56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C900E-2D73-4A7E-9272-AE90F89A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3D44D-0C3F-4C6D-8C38-798BE89A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F7259-4C8E-4BD5-ABAE-90ED570B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FA3B9-3D88-427A-9A8C-47AD626B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7D62D-1C8A-460E-8A68-DF20B374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0ED54-BD69-4A89-A96B-6968DD95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5A111-6DA6-452C-81E6-AD6AE4E9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4CADC-DE8E-4339-800E-2563B0B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6EE47-AE0E-4ACC-B79C-FEE5A71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64F3-63C4-4A8A-949D-E0B147F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97CA0-69B6-4896-84CA-AAA72CC8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064A2-6175-4513-9832-68BBF5E7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428B4-5104-415A-B8E8-966B9CAF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19650-47BD-4E4C-A418-70AB04A5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0B885-D134-446D-9596-0FA0C039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AE4C8-641C-4A7D-98B2-5B54E557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47856-5F9A-4A84-BB03-398B850B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01B94-55C0-42F4-96B4-9DF21EE5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2236A-1947-4648-A9EA-489B6275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61141B-99B5-4FF3-98AD-8F0C89C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32D-4944-4419-8DB8-4BE65E4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0C08-67F9-4BF6-ACAE-CDDA73CC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D963F-2F27-442A-A35F-1D6002A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2EA5F-7B84-4AB5-A9BE-AEEB503E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950D6-4DCF-47F1-93F9-CAF7BEA2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B30D5-5229-4B1E-87C7-68C2D31D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57727-3B91-42D3-9D3D-B82D6AF7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3E765-5C0F-47BF-88E2-4DCE70FD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F11CF-6257-47F0-9962-197DF0CA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939AA-1180-40F5-B6A0-D6510EC9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27C72-21C6-4DEA-BB0C-CAC0791B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6DA88-C687-42AE-BD0D-1FAC540E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D641-4B9B-478A-9454-18A7F33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A850F-7FAE-4B99-82C5-CE3AF9EC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0E7AF7-359C-4F0A-BC9A-89D97480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B7A29-008F-494F-ACEB-1668FBD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17A32-2768-46A6-9681-2A40F36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A509E-53E4-4ED3-9032-54E3FA75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3B5E9-53DB-44A4-910F-673ED309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05CD5-0BBD-4E57-B656-061BFCBE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165B3-D8D4-468D-B15B-4DBB0B90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F684E-0F8C-4078-8B4B-E145533F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CEABD-AF18-493A-AA9B-AB555B61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3D96-AF0F-4B26-9C38-7EC8FC54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73298-B823-4603-9A1A-F1D48A0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634F9-C882-4621-A6C3-C3E9DE8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EACFC-9CA6-4258-A1F0-BE2F329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2B71D-DAC6-47B4-8285-7D6852D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74875-4700-47B1-AF46-954BCD51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312DC-F31C-44B9-BB81-7D9FB4D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624A9-0126-4355-84E5-6403CC9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36C66-2FE8-4264-8E52-E25D70C7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ADA700-9295-4B63-8145-4AA9025F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BBB1A-F75B-4716-B983-DCCE1665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6112-5F88-44F5-9423-9C9AFB0D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F328A-6E03-44F0-9E8E-A312F2B9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418E6-6254-4767-BA14-F6228328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FE007-3B6A-405D-979D-EAE1F348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4F281-41C7-4F66-BF24-C889F0AF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0CD8B7-14FB-417B-B4CE-4B476E72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294BB-12C0-46C9-8AD9-3A3E93D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171FE-3AC5-491C-8DEA-432F5E5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07D2E-C113-4F01-8AE4-160B8B6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169E6-E560-40FB-B898-37009E83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F1CCC-BB6A-4EB5-AE2E-480112CF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1CD1-5904-4CB4-A893-BC8DDB10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E67E4-AA6D-4BF6-86D7-261427B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8B196-8235-4AD1-BE4C-EFA354FE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36CDF-F217-4EA0-AFFF-778A66B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B30A19-BAC6-4795-AA98-EC1AA307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6CA2D-C619-4983-8E84-A6B64AB8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E1BEC-F193-4A07-AE30-5420C088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E3F05-B07C-46DA-928C-C07D8782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B19B4-7BC1-49C8-BD14-87560B0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D17C32-957B-4FA6-8C40-7868BF0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ED306-EA49-443D-9D47-BE24BFB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293B-C9B6-41DF-95CB-E7159553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0B48F-1866-41D8-9EF1-C40438F7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04805-BCAF-44C4-8EA1-54ACFCE3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00BF5-04D2-42E5-A633-E5C60571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CC84B0-BCE3-4914-A0B5-19C0EC16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4CDE60-937F-4ACB-B6F5-15B0A979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2ABC5-AB38-45E8-9828-FC0FF02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D4A78C-5417-4CB7-A3DE-7582D8E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2FDD3F-7B97-4590-9322-FB22ABD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580CB-805F-44F6-9D9E-5D127E7B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CAD39-F6E4-4443-AD44-852028D2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4FE8-1598-4CE0-BDF1-307E883C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02ECC2-8D15-4D05-A442-9AA1B72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73C422-0AA7-4517-A252-C6519B69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AB5CF-CEC7-4858-8A04-9C8336A5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B329D-BF44-4337-8012-5410C721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700B73-0118-47D4-9EC4-FBD022C4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AF12E8-9C58-491A-8E14-DC92D546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24D56A-4A89-4DE2-AA5A-C89CCCCB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FE930-5400-41FE-BA92-5D0E723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C0E731-7EE1-4797-9569-CA12A24A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3924FC-B2E2-4647-82FF-5F95250E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F959-1744-4676-9EDE-B449CB8B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2E99A5-712A-40CB-B564-54326F38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845344-CE8C-46AA-A471-F9535E00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998BF4-F87F-4CC2-A45C-66E3750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ACAF40-7428-47E6-AA15-B026A16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87FC66-68F8-4E4C-B244-FFB444E0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833F9E-17F2-4FE7-B7DD-C07A2D87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237F07-D75B-4D0E-B28F-A5B28D69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6AAB36-E351-45FE-A423-FCEA1C10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CC7A7E-0EDA-45DC-A624-1BECDE30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8334C1-3951-42E6-AAA6-4C9658DF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4269-8AA4-4F95-A165-51384A9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F2944B-16E2-4189-A4BC-E7D1D957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BFDC03-9871-45EF-8E5A-0A278696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9C34E5-427D-4456-9B97-C5DA3F1A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C5DC99-4743-44BC-BE95-18918D0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D90916-E7BD-482A-93D8-662923D6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8AD53D-78AA-4516-ACB4-082CAF20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F05AF7-3C6C-4A8D-BDA4-81242FC2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0F1C59-80A2-4688-9D75-8F2B8A0C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E0C75A-4A80-46CC-985D-185D4479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EBC4D7-3333-40AB-A77E-13A2E0E4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E196-FC3F-4EAE-86F2-225D9BCF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BBBCB7-AE89-4AC2-B2B9-8F3F2F6B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360C59-E4D3-47FC-A036-D6206B6E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7740EE-48E6-4EC0-B09E-A76A099A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31BB6F-23E0-4D7E-B9E1-FC9CB423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E7D4F9-36BF-4A30-ABC4-F4CA378C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4E76CC-6B9B-471A-8625-D7F5289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32BAA0-26BD-4DA0-95EC-ED75607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D618E7-4AFE-4CCE-9B87-AB7EC29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CEE995-81AA-4934-B131-3451EE2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310D5F-0039-4DDB-9BF3-E0D04077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55E-B166-40E8-97CF-92214A95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8E5F-D95D-4090-B86C-33E0E8EE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419ABE-79EB-42B4-A396-D81F2692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06C6DD-6C12-4DC0-80A5-8DE704A9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54A730-4051-4407-A49C-CD9E1B96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3DB993-DA3A-49A4-9CC9-0541AF12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1100B8-FD7D-4BDC-BE30-CC2723C0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F12AA5-0B50-4791-AD8E-CB05BE3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1A072B-9DBB-4950-A009-25ECC4BC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E18D8D-BE3A-4955-A14E-7938A3A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C9FF4D-D892-47DE-BBA0-17671C5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ACA87E-A4BE-43B5-8C5A-82A6FB90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A996-52CD-4089-8294-DC53987D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DC07AA-7BFA-4647-ADB3-F7903A29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DE25B8-3E6A-4D5E-89CA-C2D74697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86FC2D-17BD-449D-B2F6-17728F46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96DDB2-3094-4AB0-A88A-DC3910D3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8A0DB9-7FC2-4AF3-AE1F-B06842E8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E9EA05-C50A-4F1C-B56E-4764814C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7FEAD9-252B-4022-BBCE-FEC08DE5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4D7357-540E-4938-AE31-30411D3F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C67084-FBCC-4EF8-909C-7696B79C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58DB6D-E9C3-4185-A854-3E8FE39E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0D93-9475-4678-9557-1A8567F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70855F-2BD7-4579-A4D5-BAC1F1B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667BCB-7457-416D-ABED-B8A5C32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CAD551-F41A-480D-B5B8-9542913E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F44662-EF39-4A14-AC28-3B4646BB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5786F1-089D-4226-8E07-C596AE49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EFFD3A-0F13-49F2-82C5-2E64B5FE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170C67-940F-494C-9F91-63838A3F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A36DF1-1A40-4ED2-B98E-CF294541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F8F122-2B5C-46A5-9E13-CC8856F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B5A37E-5BFA-43CD-826C-B3ADB1E2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5A75-1A86-4A15-8C5C-EA1EE39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BD1E5B-AD03-474F-8B07-CD29C7B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A97181-52EC-4000-ADAE-4F1364D6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10B591-4511-4BB2-B4EA-31377742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46A727-DD47-4025-9468-01C3341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CFE4FF-5AAC-4806-98B1-5350E4E8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9A5930-E06E-4735-93AF-5809175E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EC4372-8733-401C-9D17-89182C3D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615302-AB9B-4B79-9970-5378B002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5DC850-DC3D-4F98-B0E5-B2A228AF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093532-CF3D-432A-A894-C429AD51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FF15-515F-4768-BDAD-97432C92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876B20-7AA7-483C-8A52-6CDA288A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7796AC-1D9B-48E0-8DF4-F9249014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C3FE9B-D2B7-4E1E-805F-21D3B07F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522BE2-D773-497D-B0BE-6741FDA4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9B69DD-1802-446C-A5B4-AF8F5FB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B60F36-D2D7-498F-A88A-0F1F88E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BD9BBB-B1B4-48C6-B4AF-7EAEE851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C5348D-24B1-4395-A525-EBEAD097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C30168-80A5-4424-9CCC-22D416BF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CFF8DA-7146-475B-A861-5280B314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8CFE-153B-4DA5-BF08-B7D119B3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5F3C10-4EF9-4434-AFED-DA534973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72DFBF-01EB-4D12-BEA3-7E897A3A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EE2214-F190-4F5C-BA9C-A0E247A3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521528-582F-47A6-BF24-A1D1BCC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D505E3-5595-48CA-851E-252EA4FF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58581C-E97B-4C8C-87A2-5036BCD5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CB2817-64A3-4456-8771-982FDB5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559396-7CF3-4C11-B98D-2B84B34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FCB9A7-FE4C-4906-8D13-02232175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9F3E5B-4078-4FA9-BD2C-3953BAFC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A1DC-FDC8-4586-86D1-9EAB402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39C001-8B60-47E7-9FF0-56251471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6F710F-F093-48D2-9188-D9B7B3F4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FF8FA9-440A-4050-8247-1F437CE3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8BB5F1-53C4-4501-BFC8-0F6F959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CA99B4-1160-40C9-AAAA-BE26883A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2E844A-5C2E-4058-BFAB-8A7AF10D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4D3BDD-50F2-4DE7-9198-6583662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027939-E9CA-4A23-9C98-AD4B931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DB42CC-31A7-42FB-96AC-2A264D6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0CC7B7-7E89-42D5-AC11-E6522FD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612C-D906-45E3-9160-084B386B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7DA64B-B91B-4EA0-9BFB-88049A74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97BF42-DD1A-4115-BBC8-D0D4DCCF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507657-054D-48CF-BBE1-7492F453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4C8FD8-5E34-404E-8975-D6A6AB09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4F6431-707D-452E-8816-75A4C96B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7CCBD0-7A87-49A5-81C3-6EDCE2C9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5802D1-6EE2-443C-8809-4AF65B30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DF3572-0C27-496A-A1B6-FBA9A04F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F96258-E578-4588-ACEB-EFFDE25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055979-30EF-40C9-9D38-21FCA20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8FBC-F062-40BD-B1E7-1AA91551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C968E6-AF73-41FE-B03E-89C9387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5F032A-6DDE-414E-9D3E-F64C161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36CEB3-64EA-49E2-AE10-02106DF5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E0CCFA-66FA-4C9F-BCFE-8A4CE2D9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E4BE11-D803-4B6D-AC34-3F308368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585DF3-7259-46B2-A3F9-BB980660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DF202F-B8B9-4966-A879-D8AA0FE6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699A7C-6669-4CDD-9CB8-28D55FCA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BB918D-1118-42E0-AECE-843E46D0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254580-503E-4744-8DCB-9003CBBC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3A15-62B6-403E-B6C0-9910AD0D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C6E24B-A441-4709-B784-00C83AFA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8F1D48-B175-44F6-BF36-6224E469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A2A3C9-F40A-4F60-B5F2-AE1AC1C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792830-6CB0-4916-B93B-711F2746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EB8E13-2987-4D2A-9CA5-BA434B05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9E8A89-125B-4D0C-9707-B8E2F480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3653FC-7D22-490B-B6D8-35A9C22E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EB0109-E3B4-43B4-AFFA-7B25B730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2B5735-C0AC-4798-A171-D852A960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08B9D1-B06B-4FB2-A665-8D007016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AC2-F49B-4188-B5A6-F5D664DA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D5EB-CA5B-40EB-9B12-B1075EC7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926059-DA98-4175-9F92-DA887053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AF2920-FB5F-48F3-B295-8997A063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F6E900-F951-4F61-A386-B41EE4DC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085DBD-8F59-4483-A54B-5582C01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3EC987-3246-4FB0-803D-4BBEB92E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42A6BD-D5DD-4E32-AED7-CD9B484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5FAB53-B64B-4010-8F2C-7C8C872F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2174D9-09CE-44D6-A366-DD9C3A3D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F1CEC4-AF9A-4E36-8F7D-A9F152BC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B13599-99F2-41C1-AB3B-FFB5F5AE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ABA3-EE86-409F-832D-50942C3A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642F1C-B657-4340-9438-E8C5783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31631D-C2E6-48CB-AAA9-9F27BBA4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EBA3B6-EDFC-4DA1-BD95-0F03AC95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20ED88-6FEB-4178-BC94-31280F93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57A328-B2C7-472E-8846-2032E4C3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1FA9D7-9C3C-4185-96E1-5A02AE9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0EE707-E91A-4581-BF95-05CEFC44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C17594-E2E9-4AD8-9346-948ACFEB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1B0372-96C9-44AC-928B-DCFD08FC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A14D45-878B-472C-9D27-CB9C6213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6658-3026-413A-B43B-E3C2BBFF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95D373-AFCA-4091-ADA1-1F9C7EDD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758E49-4747-4589-99FB-83B6B412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E02510-2739-4EA2-9028-83CFF369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27EB15-C711-4455-A490-D19BB3CF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318F85-9BBF-4C1B-A0CD-E39B24FD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D092BC-6D7B-4CE3-9C03-5EAA009C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CD9854-51B8-4FEF-A489-6CC4DD39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81969E-B51A-4FBE-BBA0-7DB912B7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FCA5D6-27C5-4C5D-9486-1CE0899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A5E1D6-6106-4C75-992B-650F3DB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0ABC-781F-43C9-8C75-2653DC70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32B79F-AB3A-4DD3-90E3-D373240A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D9EAAB-CD96-479C-A895-26E1BB51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E71E59-FC9E-489F-BF05-95C9323D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5AC93D-D9B5-47B5-8C74-ADA95CC6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98E10C-E4D4-4AC8-B746-C46AA50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781A34-9A44-487F-B204-BF2C34B1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872787-E1BC-4BDA-B5F8-014884B6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F1CCA9-9804-476A-AD3F-BE1B423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7AB947-6529-42B8-AA08-4D707211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BDB100-F8B7-40C6-9D38-0F3148D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A58C-E27D-42B1-B4C0-C7E6864F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49B850-BA81-4635-ADC6-C21FC4B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67625F-8F00-4D25-8CFE-B3212A36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E124BC-9DCB-4484-B80A-EF5353DD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3C40CF-69BB-494B-AC04-D817EF56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E5C75C-5B80-4FD3-A7C8-571D33FD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51838C-F376-421B-824B-A3F8E0F7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694D9B-7E7D-48E8-9845-D604ED1D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838BD1-040B-4C8D-B1FA-5096A2A1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784B2D-5899-4EE6-B7F1-0124B01F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6DEE74-D14B-4F96-A194-D4AD15C6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DA96-FA22-4B40-B646-14DC8A6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9690EA-CD53-49BF-A964-45AD1269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2E5308-C867-4BFE-B864-93A0EF2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EDBAD4-7FD7-45D2-ADF8-2C2F9EA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DA0C07-36F7-43D6-8C7D-001AA80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EDB3BB-5EFB-426C-9899-FC24136C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E7C6A7-6C1A-4AED-A082-24DF7656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B9C689-7F0E-4EE4-8FF7-45BCD784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7A4BEF-E00C-458E-9552-48ADD6B6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DEC70F-CA8E-4742-B984-FDC233A6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A13031-1E3F-4605-94EE-185AE23F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BF67B-DEE7-40F9-8A0E-C9B4B832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D2F3BB-31B9-49C9-A4DB-9AB90F9E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334793-5542-4E07-87F7-B339BFFD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F1E8D2-A225-417F-9311-D0F7CD4E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70EE33-E948-4B5B-AA21-6D92439A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D7FD5C-FE8B-4601-86BE-04A1DF1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C67E15-305A-43B6-8DE5-14902B4D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E70A84-1F1E-4775-9B27-664D3C04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2F18C4-C39D-418E-8CCF-8F2D6FC7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589179-D999-4F5F-9CB4-EF3D25E5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FF5992-8343-455D-B722-B8E1E1EA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308F4-AF18-409F-B7E7-04580762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F56973-C6C5-4E5F-8B28-FD4F7A87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718388-459B-4295-96BE-D81D9EAE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1F1C5A-5CAF-4292-BC12-8C289F24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C0789F-DDB4-4627-9E18-9C87D990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BFB493B-3A93-4CE0-91A0-DBFAE05B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7D8036-AD7E-428C-A9F9-0997427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32A2BE-4ACF-4D58-93F6-8C48E1AB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72E1A7-2062-45D2-AD60-053013C8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EF6F70-AD43-404E-A4E4-80D5FB1C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2FED2D-51A6-42C5-A59F-26FA6814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D4417-237A-4A58-BF6D-567D1769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1B6DE5-7BCE-44D2-A8E3-79D1278E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47B301-F49C-48BF-80DF-5C9B8ADE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F23565-1BC0-4969-BA43-712E6ED4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922F32-EA80-4FB6-BA38-E3DA9D9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CD3C17-5904-4433-91F2-0329731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EA2778-5520-49D7-BB34-F553178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3B9938-1101-40F9-B7C6-DF25799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354F97-757A-445C-B52D-CF531EB8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BF74921-DCAC-43A4-9A03-8BD6F44D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229616-9382-4DE0-BD23-DF0EE379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BA2C6-D72D-4C1E-BF86-422756DA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5D0686-F512-4E10-A8F2-479174E6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77E830-68B3-4493-A588-63002E3D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B57856-5576-47B4-B040-0FB29A47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75F54A6-5E6C-4BD1-A71A-E13EBAF4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355972-C127-4980-ADA0-614936F8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A7C66E-265C-46B7-A228-013996E9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E20AEA-F9A0-4420-9731-0EFB7E91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187223-F42D-4D3D-8859-6AD91B1D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1F31F0-D91B-4040-942C-2003455B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20A556-6969-42BD-81B0-9E6C588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882-FF89-44E7-ACD1-C7353687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71CB-F7FD-4A29-AE46-A6E4CAC2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0D34FF-CF86-4409-8D4C-032783CA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942070-36BB-4B8C-87AD-BC649FA4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52AECA-B2BC-4A8D-B7B2-66FA03CE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ABFFE2-2C7D-4276-9D81-C62A7759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E2A572-E488-4F79-9B63-6F4CD5AC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6733A1-EB3A-4236-BC5C-C6485BCF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44C8EE-CA48-4181-A9F5-9A542BB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B4F1314-EC91-4515-A1CA-21E8121E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F895A2-74F6-4584-8C46-93964468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F9E579-2079-4D65-A2EB-40D26A2F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EABD-DE9B-4ED2-A4E3-F412328D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E81A6C9-2DF3-44D9-8D48-7F3F6B5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00B02A-2C68-43F8-A5F0-AF4C85F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7E0FD8-F8DD-4153-A372-345F95C0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2B4101-046E-4902-9E21-057798C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2FF96D-6668-473A-AA23-47A18214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DAAF82-3CB8-408C-AAED-7ABC32D3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C70C2A-677F-4432-AD5D-3DA7B33E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8AAD8C-405F-46C5-BB85-90638422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A59EF89-6E94-4D83-8332-F372D42D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66D317-69BD-4C8F-9154-5F84A7D2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36FE-598A-4133-A112-A244DAEA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1DC556-A91E-4243-A066-D5328479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9DA4F0-9354-4BE1-8535-71D9FC08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BE18E3-1C6C-4FE2-ACBF-610DBC6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0213DA-32A1-438C-BD25-006DC213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EFD0D5-E8C4-41C2-9C4F-B85B7D5A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512100-3B12-4586-BEA6-CA98B343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EF9306-F02B-47CB-9364-5D586191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DE62DE-F03B-45F8-9C48-93EB4484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D2860C-2C03-4C56-877C-B34AF598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8EC7813-815A-4E40-AA29-4CA15490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6D610-A98E-447A-82F2-45E36CC3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FA30DE-9ED3-47CC-AAA1-6F3E3B90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C444C9-21A1-41A4-8717-BCCD96B1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9CF22B1-8D07-44B1-9757-B7770B43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FAED0D-BCCB-410E-B248-6E266209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8E6E9A9-F605-459A-972D-B318B777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767061C-62C2-4003-AD8A-F6AE17B5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C0618B-1988-48FF-A7B6-31EEE86A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CF6CFC-E857-407A-8EDE-7EE1185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EA52A85-7202-47A3-802B-9DCC2AF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2825981-FAD3-479A-A549-B3917D85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E50E2-FC38-4045-94D1-9B5C329E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0630A1-5284-440E-A7C7-B71DE893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3B226B-67CA-4099-8D9C-829791F3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1DFBFDD-EF75-4F3E-9C6D-E76CE6FF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3C8290-1F87-4514-8793-463713FB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4B4467-88C9-41C4-8BF6-A0354708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D95A43E-9821-4E61-8CF3-9D5A8A7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B95B155-5039-4B14-878F-A1DE2400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480306-B5FE-4931-B4F1-A1C90CD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FEA0AB-39B2-421B-9B6F-1866EED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F75956C-1131-42E4-997E-91FB75D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30B88-6868-4099-9247-09053BB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674962-8380-4423-A13F-EF9C345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630F90-B9E2-46AD-9A72-A737A132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58F11AC-671A-430D-BE8D-4C6A2564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2219BC-005D-4E2A-BDE0-5267483C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811DD0F-376F-47FE-ABCE-033A209B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2283F95-933C-4963-9558-8842823D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CEFA8F-B456-4454-B0E7-79358922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2F74AC-0E48-423E-BFEC-9AD7DFD4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839F0F-809C-4C08-B0AE-2F4FE465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9554428-D75B-4DFA-A168-E1436CE0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C934-459D-4DBE-88D5-D036E045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3D028A-AF5B-4D1F-8676-F240493F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5267F9-8AF2-450D-8864-09BA8BF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B6F19C-4F34-49E3-B49F-61E6D16A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1D31CC-D4BA-4F4E-BC9B-FEFDDB1C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E64ED74-3077-450E-A552-20F8FBE2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39CDCB-B5EC-4706-928E-177A46F6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9F9B59-F406-4422-ABD0-F59F2E67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8944F0-1EFF-4FCE-9501-5D384A92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9EC037-AF35-49A7-99CA-AA7587A4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244E7E-D70C-4130-8745-CFCFC5A4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EB1CB-99B3-4107-8457-8EAF4AB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741787-6E9B-4C46-93DC-55A6BD4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9762860-0B08-433C-98D8-7F12349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04FAA62-2473-4353-A395-55AF2CBF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51ACAB-701B-4F25-87A2-9AF4118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FDCA85-4566-45D9-A710-544080EA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BDA53D-8053-40F1-A7FA-B4AA2094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D53221-247B-4BB2-BF6A-EA4221F3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78064C-D1AE-47DC-9F82-B69547B9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860DA5-FABD-40C4-853E-F6C32B65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B1675C-BC46-4AFF-8A8E-0AC61B4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7971-F22F-46E1-A3AF-3ADCED96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B2EE85-1119-41A8-A239-47ECE6E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A9E50CE-3F9A-4901-BC1A-DD74E2DE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77FC5E7-FD95-4EEF-823C-26405FFF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EDC565F-51EF-436E-B976-C8481A5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A2A616F-8A06-41DF-9B9B-DC3DAF00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E53B9C-C69D-4199-9FD1-CB9C6AD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A77C01C-6A6D-4855-8336-7C875868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BE7A9A-C385-4CF9-A5AC-7199E422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A66275-46F5-4D0B-8D99-F2153B9B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2DF7E27-CE03-4964-AA2E-198F8EA2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D425-58F7-457D-9F28-9E3F60D7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EBA8AE7-BA5F-422D-B5D1-C32622CC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DC1F4C-BF81-4272-8CD2-2BE952A5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67AD0B-FB53-489D-ABB3-87F91FF8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012C409-11A4-4211-B7F1-2A31281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523104-79B3-4661-B37E-7F84B0A4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1396F92-DE1A-43A2-B9DE-D50BCCFD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8F36A28-4593-4D76-8736-CAA6C499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B94F726-E268-4A21-B452-454207F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BB1469-4755-430A-8042-3C9E03DB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564626-0792-4AD7-9BAD-AD29F66B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372-D920-4FE9-A7D8-D687CEDF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1FA6-66CC-4141-81EA-EEE28C63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B40512F-DD9A-43DA-8EDA-99CEBADE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6DEE642-86A7-4B8B-B38F-C730097A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FFD17FD-A3E7-4153-A652-A788E3C8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597B9A-7B80-47B2-8A79-F0E9090A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EB73574-2D5E-425C-9FC4-55A446C0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6578C51-53BF-4692-99BC-88583F0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57C98D-5639-4976-929E-D30212CD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C51ED4E-53AA-49C8-9AAF-06FB0094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16A9CC-A703-4E31-8571-DFDFB1E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E100EDA-4236-479E-8CC5-17AB1F29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C365-416D-4A71-BC96-B9966EFE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7322E46-E1DE-42CF-BD07-7851E4CB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A03096-A5AB-44E1-A376-1EF0E50D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029A97D-5D5A-40AC-859A-EB168F0A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82FDCC0-9E29-489C-A16E-C6765114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E5EAF91-8089-41E7-8DA5-59DAEF63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343E5B1-9DF6-487D-8CEE-CAD86165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26C076C-9250-45A7-9504-C989F0BF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673996E-23FD-4245-B800-43B320A7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7CD907-CB59-4AFF-BA1B-5A687449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5936667-B90A-4714-8DA8-E87B3AB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5378F-D230-4E04-B85A-E31269BA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D049903-C5FC-4F8B-B0DF-F8BAE21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5F739E1-BD2F-4127-B96C-0BC35AE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BD420F-9AD2-45C3-8F76-E8355AD4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0055B33-6F80-4A40-A744-C1CE57EE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EA7A443-C3DD-4CA9-AD7D-A28DEC5B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02CF050-388A-4562-A9A8-ACB81FC8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7962F08-5357-4E2E-A369-0F642781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87A92EE-81E8-48FC-9329-5ABACF0C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8ECE037-74B8-4003-AFE9-F38A4F7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DBE865D-1CB5-4BC8-9013-08B3C210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68922-CF76-4A76-9E70-CC6C54D8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EC88135-36CB-4CFF-84EA-138A9F3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2E0564D-0C8C-45C0-AC95-DB1B112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860DD9-3A32-4837-B1EF-1B73C4E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8C7471A-8F18-4F91-B3C8-2B4EA62D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5210595-A139-401A-B819-F91DDD93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E0F5F0-EF20-477D-B798-6AEF86E4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A7764E6-4ECC-4402-B2AF-B458635F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C48CFEB-B903-486D-8048-251AB235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3FA572-2244-40C6-B9DA-DB3DAB8E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4DCC69-B7DC-4B4B-B719-EE3B5A63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45450-5867-46EA-A694-D1A5BF17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72C08B-13E1-453E-9558-98C6287D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802664-02DD-4FC7-8948-71AD87D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526F85-D199-4092-8A84-4F827FBC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F471926-7B89-47EE-BA9C-D7DDC371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702EFFF-388D-490C-AA5B-6FE84BC4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CBE0217-58A4-4168-84B7-C2A1A23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9E6CE1-D592-4265-A3F0-232FC33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5A9D17C-5A0F-4DA2-BEBA-FB4E547A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7351C4-691B-4C02-ACD2-389E03DF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526802E-E8FA-4944-BBD6-3DB46880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29D5-2514-4D32-BF18-35D844BD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ED456C-0512-4B90-A911-F325C6AF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B963DA2-8253-45F0-9877-47A20E50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DDB24B-F6B8-470E-AA8A-8512449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CAB2BE6-6640-4835-BF65-7BDACF43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4CC39A-563A-4E49-B618-67822FC3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A8ADF0F-B9B0-4DCC-B77D-120AC40E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9D6F3E-747C-4864-BB40-D8E28BF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F396671-D0C1-449C-93E2-A41A4091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A168DC9-65F1-4958-8477-F1B96A1F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04B42DC-7A55-48F0-B059-69D4FC98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D1238-DD5E-448D-9CB6-0842C33E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8CA1D34-4712-49ED-9A76-392E3D7F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127A57C-6784-4D14-A2DF-A3FD652A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CFC5C47-FE96-4F8D-AF98-5EE2E35C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DD931E5-2812-458C-A695-246C33ED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581212-E253-4E2C-9350-6EB40ADD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4166AA-46C7-484C-85C3-DF225063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F1B4193-9B8B-4DBA-A7C0-47B48866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0A2EA44-5B3B-409B-96CE-6233710C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1A3A1BD-1CDA-4424-BA52-571E72D8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9B69711-E909-4B43-87BE-5EBAC77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32742-3E91-41B2-8E03-4177C36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A4DBA6-A68B-4545-8479-DC1C9FFE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4E065D1-465E-4456-BE27-FD100026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E8CF87-2CFB-4C60-A78A-BA7AFDD3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FBD492A-9811-484C-B421-0C48F215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D4BE3D-E4B5-488C-8EF7-057A7F9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C5BFFDD-D317-4BF5-9C5C-DD967C2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99088C-3C91-4E32-AB4D-D505E87F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10C89C6-7411-432B-9137-1D01196D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03B9648-6CDB-4FF7-AD9A-A96C09F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5CDAFA-79F9-4046-ACD6-DBDB6848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17D3-3FEB-4D1A-BC5E-848D9F9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F46D761-AA40-44D1-9653-A1ABA4F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87E6787-68CA-4F55-81FB-CEFD6EF2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1CD6109-E9B5-4442-BD65-8E1A01B1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47ECEA8-0B7E-4B53-A996-DC7C0CCD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8FFFF31-9406-4392-A82F-95E60D38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1370-F33E-4973-81D0-947D631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5AD-D037-495E-BE0A-30296B68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A096-458F-48DD-8863-0FC1C3F9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27533-CE59-4B1A-8709-6F257BFE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3F512-8A56-493B-8D30-DF60A5FF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19C5-E902-41CD-9CEE-71A3275A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765E0-2B06-48FC-8423-A5D9BE96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17235-3D80-4874-A2B3-8B5F2C7B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2CF4-8857-42B4-842F-4ECAAD15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39E92-AC02-443A-8912-133112CE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2974-4214-4050-BD9F-1FBE84AD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C3B9-B4C6-439F-B320-660081D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1E9-9380-4B66-9B0F-EA9D513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CD594-A7DF-469C-B8AD-B0172F54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C0160-EFC0-4662-A86E-1ED28C91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62F9D-3C2A-4147-A51E-9FA3F3BE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4D97A-E247-4A69-94C0-745F8603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0DF7D-EB04-413D-9C98-FD18682E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78DD-37E3-4DB7-BA8D-421EFDD4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5A08-B864-4807-B2D6-A9CE836E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702A8-1BAC-45C2-AAB8-B243DE6E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043F2-BC8B-4F64-8A55-B0B4F082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F4138-EBF3-434B-94D3-C346ADB7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684-35B4-4D1B-AE53-433CEBD4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1B118-9E48-4E54-9C59-207CEFC3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B4666-F264-429B-B415-3CDBBFD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1177-C243-4988-A01D-78A6B06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3BEC0-C2EF-47A4-AF82-E7016430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57038-55C4-43A0-829B-1FF1380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A207C-A58F-4372-A400-70A75D27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774C4-0AD7-44BA-83B5-A85046BD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5B41D-3786-4E01-97E6-CD8FE20D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8CAC8-8F69-4F4A-9689-9A478CF8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8E21D-8464-4CD8-86C3-88301D80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97.xml"/><Relationship Id="rId7" Type="http://schemas.openxmlformats.org/officeDocument/2006/relationships/slideLayout" Target="../slideLayouts/slideLayout398.xml"/><Relationship Id="rId8" Type="http://schemas.openxmlformats.org/officeDocument/2006/relationships/slideLayout" Target="../slideLayouts/slideLayout399.xml"/><Relationship Id="rId9" Type="http://schemas.openxmlformats.org/officeDocument/2006/relationships/slideLayout" Target="../slideLayouts/slideLayout400.xml"/><Relationship Id="rId10" Type="http://schemas.openxmlformats.org/officeDocument/2006/relationships/slideLayout" Target="../slideLayouts/slideLayout401.xml"/><Relationship Id="rId11" Type="http://schemas.openxmlformats.org/officeDocument/2006/relationships/slideLayout" Target="../slideLayouts/slideLayout402.xml"/><Relationship Id="rId12" Type="http://schemas.openxmlformats.org/officeDocument/2006/relationships/slideLayout" Target="../slideLayouts/slideLayout403.xml"/><Relationship Id="rId13" Type="http://schemas.openxmlformats.org/officeDocument/2006/relationships/slideLayout" Target="../slideLayouts/slideLayout404.xml"/><Relationship Id="rId14" Type="http://schemas.openxmlformats.org/officeDocument/2006/relationships/slideLayout" Target="../slideLayouts/slideLayout405.xml"/><Relationship Id="rId15" Type="http://schemas.openxmlformats.org/officeDocument/2006/relationships/slideLayout" Target="../slideLayouts/slideLayout406.xml"/><Relationship Id="rId16" Type="http://schemas.openxmlformats.org/officeDocument/2006/relationships/slideLayout" Target="../slideLayouts/slideLayout407.xml"/><Relationship Id="rId17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41.xml"/><Relationship Id="rId7" Type="http://schemas.openxmlformats.org/officeDocument/2006/relationships/slideLayout" Target="../slideLayouts/slideLayout542.xml"/><Relationship Id="rId8" Type="http://schemas.openxmlformats.org/officeDocument/2006/relationships/slideLayout" Target="../slideLayouts/slideLayout543.xml"/><Relationship Id="rId9" Type="http://schemas.openxmlformats.org/officeDocument/2006/relationships/slideLayout" Target="../slideLayouts/slideLayout544.xml"/><Relationship Id="rId10" Type="http://schemas.openxmlformats.org/officeDocument/2006/relationships/slideLayout" Target="../slideLayouts/slideLayout545.xml"/><Relationship Id="rId11" Type="http://schemas.openxmlformats.org/officeDocument/2006/relationships/slideLayout" Target="../slideLayouts/slideLayout546.xml"/><Relationship Id="rId12" Type="http://schemas.openxmlformats.org/officeDocument/2006/relationships/slideLayout" Target="../slideLayouts/slideLayout547.xml"/><Relationship Id="rId13" Type="http://schemas.openxmlformats.org/officeDocument/2006/relationships/slideLayout" Target="../slideLayouts/slideLayout548.xml"/><Relationship Id="rId14" Type="http://schemas.openxmlformats.org/officeDocument/2006/relationships/slideLayout" Target="../slideLayouts/slideLayout549.xml"/><Relationship Id="rId15" Type="http://schemas.openxmlformats.org/officeDocument/2006/relationships/slideLayout" Target="../slideLayouts/slideLayout550.xml"/><Relationship Id="rId16" Type="http://schemas.openxmlformats.org/officeDocument/2006/relationships/slideLayout" Target="../slideLayouts/slideLayout551.xml"/><Relationship Id="rId17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0CA-D86A-4740-AA18-63A0C5B386C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19A8-3D7E-4C35-B2C1-037E6212D4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2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3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5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6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7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9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0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1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2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4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5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6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8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9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0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2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3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4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5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6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7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8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9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30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31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24CE-8885-49D4-BA4F-95F056F418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7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9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0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2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3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5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6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8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9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2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4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7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8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0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1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3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4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5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3A48-B75D-4643-8BAB-2E34E4A24D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4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ACB7-A6BE-4F23-BAC3-4939167C09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2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5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5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5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5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7E4-DFD6-4BD2-9672-DC992F59B6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9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9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9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0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1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CEE5-71D0-489E-8802-4BB90DCC69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7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7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2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3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5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6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7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79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0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1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2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4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5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6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8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89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0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2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3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4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5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6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7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8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99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0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1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7E0D-D086-4DBD-B1E9-7DDFB3D00C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6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7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8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9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0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1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2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3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4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5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6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8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9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0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2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3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4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6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7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8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9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0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1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2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3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4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5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BC7-38F4-45DD-93BF-935A4F06A0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1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1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0271-8FC7-4FA0-AE88-18D2A50DF8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9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9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5AFB-B869-40AF-8279-5F82E944BE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DCBA-1C63-4169-B08F-F3525D1241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6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6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1438-8FAB-4B1B-8DD2-82DDBBF74C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4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34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7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C0DF-01F0-47F1-829B-90D4A40DAD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7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8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9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0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1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2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3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4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5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6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7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9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0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1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3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4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5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7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8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9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0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1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2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3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4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5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6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4443-CBDB-4668-90A8-05EF4460A8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9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FE5D-3D76-429F-8628-5DA3FDC2E1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6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6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1DCE-DC94-442A-9E6A-74BE72C576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3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63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2463-80C2-44E7-9BEA-997D65CFAD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1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DD3-40D6-4AE7-BDA2-804FE48DF8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8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8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7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8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9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0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1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2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3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4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5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6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7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9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0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1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3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4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5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7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8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9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0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1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2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3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4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5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6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CF75-5120-45D7-B6CC-91A9CD5C33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5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6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34F6-C03A-468F-B912-BABCA86343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3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B7D4-2C5A-4C54-81D7-225A1D04B3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C67-36D4-4510-BD6D-944EA4AFB5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0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5A7E-CB6C-4065-B1DE-407C4473F4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4371-9CC1-41AF-AB54-12C03F7C82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7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8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9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0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1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2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3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4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5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6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7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9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0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1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3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4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5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7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8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9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0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1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2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3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4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5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6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EAD6-D69F-49D5-B071-9C37186C88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2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CCD8-AFDF-4B5E-A40E-2DF8A78D5F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0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30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0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0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ftr" idx="10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 type="sldNum" idx="10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FE4-8A7A-4ADF-9040-CD8B31D27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6"/>
    <p:sldLayoutId id="2147484079" r:id="rId7"/>
    <p:sldLayoutId id="2147484080" r:id="rId8"/>
    <p:sldLayoutId id="2147484081" r:id="rId9"/>
    <p:sldLayoutId id="2147484082" r:id="rId10"/>
    <p:sldLayoutId id="2147484083" r:id="rId11"/>
    <p:sldLayoutId id="2147484084" r:id="rId12"/>
    <p:sldLayoutId id="2147484085" r:id="rId13"/>
    <p:sldLayoutId id="2147484086" r:id="rId14"/>
    <p:sldLayoutId id="2147484087" r:id="rId15"/>
    <p:sldLayoutId id="2147484088" r:id="rId16"/>
    <p:sldLayoutId id="2147484089" r:id="rId17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4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 type="dt" idx="10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 type="ftr" idx="10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5" name="PlaceHolder 5"/>
          <p:cNvSpPr>
            <a:spLocks noGrp="1"/>
          </p:cNvSpPr>
          <p:nvPr>
            <p:ph type="sldNum" idx="10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0C94-30AC-44FB-88FE-51991B4EE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9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39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 type="dt" idx="10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 type="ftr" idx="10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 type="sldNum" idx="10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A5CF-C9DE-40DC-A254-B4EDAB3C6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3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44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 type="dt" idx="10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 type="ftr" idx="11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 type="sldNum" idx="11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6419-4805-46EA-B6E2-3587901BD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8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48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 type="dt" idx="11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 type="ftr" idx="11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 type="sldNum" idx="11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7558-933B-4606-9E3C-2C23F4E23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2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53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 type="dt" idx="11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 type="ftr" idx="11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 type="sldNum" idx="11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C756-CC45-47B6-AC2F-90DC3325F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7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78A2-8B1E-4A74-A542-A881DB4A4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7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57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 type="dt" idx="11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 type="ftr" idx="11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 type="sldNum" idx="12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AFC-B5EE-4A3E-96EA-35FE1EDF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1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62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 type="dt" idx="12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 type="ftr" idx="12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 type="sldNum" idx="12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2666-8610-4F9B-A411-2DB717CB9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6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66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dt" idx="12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 type="ftr" idx="12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 type="sldNum" idx="12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53D4-C6E8-4A59-9B91-E13452AC2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0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71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2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2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2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8D68-69E6-4E8B-B778-4AC7ECD05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5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75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 type="dt" idx="13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 type="ftr" idx="13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0" name="PlaceHolder 5"/>
          <p:cNvSpPr>
            <a:spLocks noGrp="1"/>
          </p:cNvSpPr>
          <p:nvPr>
            <p:ph type="sldNum" idx="13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9C1D-DC56-43D7-9F67-76BC720C5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9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80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 type="dt" idx="13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4" name="PlaceHolder 4"/>
          <p:cNvSpPr>
            <a:spLocks noGrp="1"/>
          </p:cNvSpPr>
          <p:nvPr>
            <p:ph type="ftr" idx="13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5" name="PlaceHolder 5"/>
          <p:cNvSpPr>
            <a:spLocks noGrp="1"/>
          </p:cNvSpPr>
          <p:nvPr>
            <p:ph type="sldNum" idx="13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CD53-C6A9-485A-A6CF-1A95C5B8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4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8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4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 type="dt" idx="13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 type="ftr" idx="13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 type="sldNum" idx="13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711D-3E58-42CE-BD8F-735743186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6"/>
    <p:sldLayoutId id="2147484235" r:id="rId7"/>
    <p:sldLayoutId id="2147484236" r:id="rId8"/>
    <p:sldLayoutId id="2147484237" r:id="rId9"/>
    <p:sldLayoutId id="2147484238" r:id="rId10"/>
    <p:sldLayoutId id="2147484239" r:id="rId11"/>
    <p:sldLayoutId id="2147484240" r:id="rId12"/>
    <p:sldLayoutId id="2147484241" r:id="rId13"/>
    <p:sldLayoutId id="2147484242" r:id="rId14"/>
    <p:sldLayoutId id="2147484243" r:id="rId15"/>
    <p:sldLayoutId id="2147484244" r:id="rId16"/>
    <p:sldLayoutId id="2147484245" r:id="rId17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8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89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 type="dt" idx="13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 type="ftr" idx="14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5" name="PlaceHolder 5"/>
          <p:cNvSpPr>
            <a:spLocks noGrp="1"/>
          </p:cNvSpPr>
          <p:nvPr>
            <p:ph type="sldNum" idx="14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B66B-724A-4B50-8877-D0B68EFAA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3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 type="dt" idx="14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 type="ftr" idx="14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0" name="PlaceHolder 5"/>
          <p:cNvSpPr>
            <a:spLocks noGrp="1"/>
          </p:cNvSpPr>
          <p:nvPr>
            <p:ph type="sldNum" idx="14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8B9F-2FEA-4142-B0B7-7C552CC4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7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98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 type="dt" idx="14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 type="ftr" idx="14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 type="sldNum" idx="14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103E-6B9F-4224-8F49-3CD672B58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1492-EBD6-42F6-9616-6AEF298CF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2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02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 type="dt" idx="14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 type="ftr" idx="14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 type="sldNum" idx="15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8AC4-C2DE-479C-974B-E5E503566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6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07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 type="dt" idx="15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4" name="PlaceHolder 4"/>
          <p:cNvSpPr>
            <a:spLocks noGrp="1"/>
          </p:cNvSpPr>
          <p:nvPr>
            <p:ph type="ftr" idx="15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5" name="PlaceHolder 5"/>
          <p:cNvSpPr>
            <a:spLocks noGrp="1"/>
          </p:cNvSpPr>
          <p:nvPr>
            <p:ph type="sldNum" idx="15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D7E-3023-49DD-AE8C-9C8000FF4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1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11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15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15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15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877D-9578-4BC2-AB85-8FA31253F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5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16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15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15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15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9C8F-D704-47D9-8C39-2969D1C94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0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 type="dt" idx="16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 type="ftr" idx="16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0" name="PlaceHolder 5"/>
          <p:cNvSpPr>
            <a:spLocks noGrp="1"/>
          </p:cNvSpPr>
          <p:nvPr>
            <p:ph type="sldNum" idx="16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58D7-2700-4140-9AA1-F3E2D5041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4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25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 type="dt" idx="16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 type="ftr" idx="16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 type="sldNum" idx="16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5DB2-21CB-4098-B353-4C4E06A62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3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94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295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 type="dt" idx="16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 type="ftr" idx="16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 type="sldNum" idx="16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2A3-58AC-4AD7-9C5E-F9DB74396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8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339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340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 type="dt" idx="16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 type="ftr" idx="17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 type="sldNum" idx="17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36B6-4C93-49B4-ADEF-08C09CE93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6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BBEF-5B53-4F84-B558-EF011A17006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33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5630-753D-4E99-AC45-CBE1D4C0A84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7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2BDA-D9C0-4EBE-A56B-540844B23B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A85E-B3DF-449D-986B-CA4F83280E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Unit 4 Regents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1750 – 1914 Overview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(Practice Questions up thrugh June 2013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456" name="Picture 3" descr="suez"/>
          <p:cNvPicPr/>
          <p:nvPr/>
        </p:nvPicPr>
        <p:blipFill>
          <a:blip r:embed="rId1"/>
          <a:stretch/>
        </p:blipFill>
        <p:spPr>
          <a:xfrm>
            <a:off x="1371600" y="1828800"/>
            <a:ext cx="1900080" cy="1905120"/>
          </a:xfrm>
          <a:prstGeom prst="rect">
            <a:avLst/>
          </a:prstGeom>
          <a:ln w="0">
            <a:noFill/>
          </a:ln>
        </p:spPr>
      </p:pic>
      <p:pic>
        <p:nvPicPr>
          <p:cNvPr id="3457" name="Picture 4" descr="suez-canal--opera"/>
          <p:cNvPicPr/>
          <p:nvPr/>
        </p:nvPicPr>
        <p:blipFill>
          <a:blip r:embed="rId2"/>
          <a:stretch/>
        </p:blipFill>
        <p:spPr>
          <a:xfrm>
            <a:off x="5105520" y="990720"/>
            <a:ext cx="3352680" cy="1904760"/>
          </a:xfrm>
          <a:prstGeom prst="rect">
            <a:avLst/>
          </a:prstGeom>
          <a:ln w="0">
            <a:noFill/>
          </a:ln>
        </p:spPr>
      </p:pic>
      <p:sp>
        <p:nvSpPr>
          <p:cNvPr id="3458" name="Text Box 5"/>
          <p:cNvSpPr/>
          <p:nvPr/>
        </p:nvSpPr>
        <p:spPr>
          <a:xfrm>
            <a:off x="4495680" y="2971800"/>
            <a:ext cx="49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Times New Roman"/>
              </a:rPr>
              <a:t>Suez cana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opened in 1869; Erie in 1825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59" name="Picture 6" descr=""/>
          <p:cNvPicPr/>
          <p:nvPr/>
        </p:nvPicPr>
        <p:blipFill>
          <a:blip r:embed="rId3"/>
          <a:stretch/>
        </p:blipFill>
        <p:spPr>
          <a:xfrm>
            <a:off x="5410080" y="3581280"/>
            <a:ext cx="3124440" cy="2343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3460" name="Rectangle 8"/>
          <p:cNvSpPr/>
          <p:nvPr/>
        </p:nvSpPr>
        <p:spPr>
          <a:xfrm>
            <a:off x="533520" y="396252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ephenson,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Rocke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, 183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ulton, steamboat, 180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aimler, internal combustion engine – 1885 (Ford – </a:t>
            </a:r>
            <a:r>
              <a:rPr b="1" lang="en-US" sz="2400" spc="-1" strike="noStrike">
                <a:solidFill>
                  <a:srgbClr val="991f0b"/>
                </a:solidFill>
                <a:latin typeface="Times New Roman"/>
              </a:rPr>
              <a:t>assembly line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1905 – Model T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right, airplane, 190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1" name="Picture 6" descr="india"/>
          <p:cNvPicPr/>
          <p:nvPr/>
        </p:nvPicPr>
        <p:blipFill>
          <a:blip r:embed="rId1"/>
          <a:stretch/>
        </p:blipFill>
        <p:spPr>
          <a:xfrm>
            <a:off x="1219320" y="1905120"/>
            <a:ext cx="4343400" cy="3730680"/>
          </a:xfrm>
          <a:prstGeom prst="rect">
            <a:avLst/>
          </a:prstGeom>
          <a:ln w="0">
            <a:noFill/>
          </a:ln>
        </p:spPr>
      </p:pic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3" name="Text Box 8"/>
          <p:cNvSpPr/>
          <p:nvPr/>
        </p:nvSpPr>
        <p:spPr>
          <a:xfrm>
            <a:off x="5791320" y="1066680"/>
            <a:ext cx="3047760" cy="72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erms to Know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ritish East India Co. 1700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poy Mutiny 185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andhi – Amritsar “Home Rule” (1948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kistan/India (Kashmir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enefits – educations, industry, railroa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64" name="Picture 10" descr="imperialism"/>
          <p:cNvPicPr/>
          <p:nvPr/>
        </p:nvPicPr>
        <p:blipFill>
          <a:blip r:embed="rId2"/>
          <a:stretch/>
        </p:blipFill>
        <p:spPr>
          <a:xfrm>
            <a:off x="228600" y="304920"/>
            <a:ext cx="8915400" cy="6199200"/>
          </a:xfrm>
          <a:prstGeom prst="rect">
            <a:avLst/>
          </a:prstGeom>
          <a:ln w="0">
            <a:noFill/>
          </a:ln>
        </p:spPr>
      </p:pic>
      <p:sp>
        <p:nvSpPr>
          <p:cNvPr id="3465" name="Rectangle 12"/>
          <p:cNvSpPr/>
          <p:nvPr/>
        </p:nvSpPr>
        <p:spPr>
          <a:xfrm>
            <a:off x="685800" y="5638680"/>
            <a:ext cx="25909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cantal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arl Mar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Disliked what he saw in factor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Wrote </a:t>
            </a:r>
            <a:r>
              <a:rPr b="1" i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Communist Manifesto 1848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–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proletariat (working class) needs to rise up against bourgeoisie (factory owner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Overthrow of capitalist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Will inspire Russian (Bolshevik)/Communist R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ckens &amp; Darw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ckens wrote Bleak House and Oliver Twist about the horrors of the industrial revolution – child labor, crime, et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arwin wrote about how Europeans were justified in conquering other countries because of the “survival of the fittest” mental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lthus wrote about population control would be natural based on the fact that the world could only feed so much – rest will starve – natural way of thing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rish Potato Fami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1848 Potato Fam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Irish had become use to eating potatoes that they had gotten from Columbian Exchange (Latin America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Blight (disease) struck pota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Famine led to the mass migration of Irish to United State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72" name="Picture 7" descr="http://www.historyplace.com/worldhistory/famine/thp-poor-children.gif"/>
          <p:cNvPicPr/>
          <p:nvPr/>
        </p:nvPicPr>
        <p:blipFill>
          <a:blip r:embed="rId1"/>
          <a:stretch/>
        </p:blipFill>
        <p:spPr>
          <a:xfrm>
            <a:off x="2895480" y="4343400"/>
            <a:ext cx="3295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anges in Social and Gender Stru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1066320" y="2101320"/>
            <a:ext cx="40388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Emancipation of Serfs (Alexander II) and Slaves (Lincoln) (1860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ncrease in Women’s Rights and desire for suffrage (right to vote) i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1848 –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eneca Falls, N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ncreased birth control in European worl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75" name="Picture 5" descr="133"/>
          <p:cNvPicPr/>
          <p:nvPr/>
        </p:nvPicPr>
        <p:blipFill>
          <a:blip r:embed="rId1"/>
          <a:stretch/>
        </p:blipFill>
        <p:spPr>
          <a:xfrm>
            <a:off x="5334120" y="2362320"/>
            <a:ext cx="35812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cial Structure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st-Industrial Europ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77" name="AutoShape 3"/>
          <p:cNvSpPr/>
          <p:nvPr/>
        </p:nvSpPr>
        <p:spPr>
          <a:xfrm>
            <a:off x="1866960" y="1828800"/>
            <a:ext cx="5410080" cy="419112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8" name="Line 4"/>
          <p:cNvSpPr/>
          <p:nvPr/>
        </p:nvSpPr>
        <p:spPr>
          <a:xfrm>
            <a:off x="3467160" y="3657600"/>
            <a:ext cx="220968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9" name="Text Box 5"/>
          <p:cNvSpPr/>
          <p:nvPr/>
        </p:nvSpPr>
        <p:spPr>
          <a:xfrm>
            <a:off x="3886200" y="2743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Industrial Tycoons &amp; Banke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0" name="Line 6"/>
          <p:cNvSpPr/>
          <p:nvPr/>
        </p:nvSpPr>
        <p:spPr>
          <a:xfrm>
            <a:off x="3124080" y="4191120"/>
            <a:ext cx="28958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1" name="Text Box 7"/>
          <p:cNvSpPr/>
          <p:nvPr/>
        </p:nvSpPr>
        <p:spPr>
          <a:xfrm>
            <a:off x="365760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Doctors, lawye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2" name="Line 8"/>
          <p:cNvSpPr/>
          <p:nvPr/>
        </p:nvSpPr>
        <p:spPr>
          <a:xfrm>
            <a:off x="2819520" y="4572000"/>
            <a:ext cx="350496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3" name="Text Box 9"/>
          <p:cNvSpPr/>
          <p:nvPr/>
        </p:nvSpPr>
        <p:spPr>
          <a:xfrm>
            <a:off x="3733920" y="4191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Artisans, Clerk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4" name="Text Box 10"/>
          <p:cNvSpPr/>
          <p:nvPr/>
        </p:nvSpPr>
        <p:spPr>
          <a:xfrm>
            <a:off x="3086280" y="4800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Laborers –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Factories &amp; Farm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French Revolution – 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879-1805 - Cause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equality of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Estates Genera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(3</a:t>
            </a:r>
            <a:r>
              <a:rPr b="0" lang="en-US" sz="2800" spc="-1" strike="noStrike" baseline="30000">
                <a:solidFill>
                  <a:srgbClr val="5b5249"/>
                </a:solidFill>
                <a:latin typeface="Arial"/>
                <a:ea typeface="Arial"/>
              </a:rPr>
              <a:t>rd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estate had to pay taxes), bread famine, expenses of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Louis XVI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and Antoinette – Palace of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Versailles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Enlightenment – Montesquieu, Voltaire, Rousseau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American and British (Glorious) Revolutions were examp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5028840" y="3885840"/>
            <a:ext cx="380988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  <a:ea typeface="Arial"/>
            </a:endParaRPr>
          </a:p>
        </p:txBody>
      </p:sp>
      <p:pic>
        <p:nvPicPr>
          <p:cNvPr id="3488" name="Picture 4" descr="liberty"/>
          <p:cNvPicPr/>
          <p:nvPr/>
        </p:nvPicPr>
        <p:blipFill>
          <a:blip r:embed="rId1"/>
          <a:stretch/>
        </p:blipFill>
        <p:spPr>
          <a:xfrm>
            <a:off x="5715000" y="2057400"/>
            <a:ext cx="350532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nch Revolution Ev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90" name=""/>
          <p:cNvSpPr txBox="1"/>
          <p:nvPr/>
        </p:nvSpPr>
        <p:spPr>
          <a:xfrm>
            <a:off x="1066320" y="2101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orming of Bastil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Declaration of Rights of Man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(Constitution) made at Tennis Court Oa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ign of Terror – Robespierre (leader of Committee of Public Safety) used guillotine to kill nobles – including Louis XVI and wife Marie Antoinet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nch Revolution - Resul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Napoleon Bonaparte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– created Napoleonic Code of Law and fixed prices on foo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reated “Grand Embassy” – took out much of Europe except Russia who used “scorched earth policy” and 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cold climate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defeat Napoleon, ended at Waterloo.  Russia was also too large to defe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1" name="Picture 2" descr="MCj04124640000[1]"/>
          <p:cNvPicPr/>
          <p:nvPr/>
        </p:nvPicPr>
        <p:blipFill>
          <a:blip r:embed="rId1"/>
          <a:stretch/>
        </p:blipFill>
        <p:spPr>
          <a:xfrm>
            <a:off x="3581280" y="1066680"/>
            <a:ext cx="2667240" cy="2619360"/>
          </a:xfrm>
          <a:prstGeom prst="rect">
            <a:avLst/>
          </a:prstGeom>
          <a:ln w="0">
            <a:noFill/>
          </a:ln>
        </p:spPr>
      </p:pic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Agrarian Revolu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93" name=""/>
          <p:cNvSpPr txBox="1"/>
          <p:nvPr/>
        </p:nvSpPr>
        <p:spPr>
          <a:xfrm>
            <a:off x="380880" y="2742840"/>
            <a:ext cx="2235600" cy="114336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1701 – Jethro Tull’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eed Drill (followed b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ools for reaping and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hemical fertilizers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4" name="Text Box 5"/>
          <p:cNvSpPr/>
          <p:nvPr/>
        </p:nvSpPr>
        <p:spPr>
          <a:xfrm>
            <a:off x="4413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5" name="AutoShape 6"/>
          <p:cNvSpPr/>
          <p:nvPr/>
        </p:nvSpPr>
        <p:spPr>
          <a:xfrm>
            <a:off x="380880" y="3962520"/>
            <a:ext cx="3200400" cy="1066680"/>
          </a:xfrm>
          <a:prstGeom prst="rightArrowCallout">
            <a:avLst>
              <a:gd name="adj1" fmla="val 22687"/>
              <a:gd name="adj2" fmla="val 25000"/>
              <a:gd name="adj3" fmla="val 50006"/>
              <a:gd name="adj4" fmla="val 6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1720s Good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eather i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6" name="AutoShape 7"/>
          <p:cNvSpPr/>
          <p:nvPr/>
        </p:nvSpPr>
        <p:spPr>
          <a:xfrm>
            <a:off x="380880" y="1447920"/>
            <a:ext cx="3353040" cy="1218960"/>
          </a:xfrm>
          <a:prstGeom prst="rightArrowCallout">
            <a:avLst>
              <a:gd name="adj1" fmla="val 25002"/>
              <a:gd name="adj2" fmla="val 25000"/>
              <a:gd name="adj3" fmla="val 45846"/>
              <a:gd name="adj4" fmla="val 6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1600s Enclosure Mvmt. – by 1700s more popular in Englan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7" name="AutoShape 8"/>
          <p:cNvSpPr/>
          <p:nvPr/>
        </p:nvSpPr>
        <p:spPr>
          <a:xfrm>
            <a:off x="380880" y="5181480"/>
            <a:ext cx="3048120" cy="1295640"/>
          </a:xfrm>
          <a:prstGeom prst="rightArrowCallout">
            <a:avLst>
              <a:gd name="adj1" fmla="val 25002"/>
              <a:gd name="adj2" fmla="val 25000"/>
              <a:gd name="adj3" fmla="val 39210"/>
              <a:gd name="adj4" fmla="val 6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1730 – Townshend suggest clover for crop rotation (no longer fallow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8" name="AutoShape 9"/>
          <p:cNvSpPr/>
          <p:nvPr/>
        </p:nvSpPr>
        <p:spPr>
          <a:xfrm>
            <a:off x="4724280" y="1600200"/>
            <a:ext cx="4572000" cy="45720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od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urplu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9" name="AutoShape 10"/>
          <p:cNvSpPr/>
          <p:nvPr/>
        </p:nvSpPr>
        <p:spPr>
          <a:xfrm>
            <a:off x="3048120" y="0"/>
            <a:ext cx="4495680" cy="2895480"/>
          </a:xfrm>
          <a:prstGeom prst="cloudCallout">
            <a:avLst>
              <a:gd name="adj1" fmla="val 17902"/>
              <a:gd name="adj2" fmla="val 56250"/>
            </a:avLst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ndless Farmers – need new job and new home (move to citie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0" name="AutoShape 11"/>
          <p:cNvSpPr/>
          <p:nvPr/>
        </p:nvSpPr>
        <p:spPr>
          <a:xfrm rot="20391600">
            <a:off x="3428640" y="5409720"/>
            <a:ext cx="2895480" cy="1143000"/>
          </a:xfrm>
          <a:prstGeom prst="rightArrowCallout">
            <a:avLst>
              <a:gd name="adj1" fmla="val 25002"/>
              <a:gd name="adj2" fmla="val 50000"/>
              <a:gd name="adj3" fmla="val 42220"/>
              <a:gd name="adj4" fmla="val 6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New High Yield Crops – potatoes, corn; turnips and bee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494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495" name="Picture 2" descr="http://resource.rockyview.ab.ca/t4t/ss201/images/m1/ss20_1_m1_026_l.jpg"/>
          <p:cNvPicPr/>
          <p:nvPr/>
        </p:nvPicPr>
        <p:blipFill>
          <a:blip r:embed="rId2"/>
          <a:stretch/>
        </p:blipFill>
        <p:spPr>
          <a:xfrm>
            <a:off x="1066680" y="685800"/>
            <a:ext cx="72392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atin America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au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1. Growing sense of national identity – same as 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2. Local resentment of Spanish/Portuguese economic policies – same as 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3. Frustration of American born Creole upper and middle clas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4. Spark/catalyst was Napoleon’s conquest of Spai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Haiti –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Toussaint L’Ouverture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(1803) – slave upri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lumbia – Simon Bolivar created “Grand Columbia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952880" y="914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Mexico – 1810/1910 (Hidalgo – priest stirred mestizos; Morelos, landed elite led by caudillos abusive under Porfirio Diaz,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Emiliano Zapata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demands land redistribution – constitution in 1917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99" name="Picture 4" descr="EdouardJean"/>
          <p:cNvPicPr/>
          <p:nvPr/>
        </p:nvPicPr>
        <p:blipFill>
          <a:blip r:embed="rId1"/>
          <a:stretch/>
        </p:blipFill>
        <p:spPr>
          <a:xfrm>
            <a:off x="5867280" y="3429000"/>
            <a:ext cx="232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ocial Structure of the Spanish Coloni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1" name="Line 3"/>
          <p:cNvSpPr/>
          <p:nvPr/>
        </p:nvSpPr>
        <p:spPr>
          <a:xfrm>
            <a:off x="1905120" y="54864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2" name="Line 4"/>
          <p:cNvSpPr/>
          <p:nvPr/>
        </p:nvSpPr>
        <p:spPr>
          <a:xfrm flipV="1">
            <a:off x="1905120" y="1523520"/>
            <a:ext cx="220968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3" name="Line 5"/>
          <p:cNvSpPr/>
          <p:nvPr/>
        </p:nvSpPr>
        <p:spPr>
          <a:xfrm>
            <a:off x="4114800" y="1523880"/>
            <a:ext cx="2514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4" name="Line 6"/>
          <p:cNvSpPr/>
          <p:nvPr/>
        </p:nvSpPr>
        <p:spPr>
          <a:xfrm>
            <a:off x="22096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5" name="Line 7"/>
          <p:cNvSpPr/>
          <p:nvPr/>
        </p:nvSpPr>
        <p:spPr>
          <a:xfrm>
            <a:off x="3124080" y="3352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6" name="Line 8"/>
          <p:cNvSpPr/>
          <p:nvPr/>
        </p:nvSpPr>
        <p:spPr>
          <a:xfrm flipV="1">
            <a:off x="41911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7" name="Line 9"/>
          <p:cNvSpPr/>
          <p:nvPr/>
        </p:nvSpPr>
        <p:spPr>
          <a:xfrm>
            <a:off x="358128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8" name="Text Box 10"/>
          <p:cNvSpPr/>
          <p:nvPr/>
        </p:nvSpPr>
        <p:spPr>
          <a:xfrm>
            <a:off x="2286000" y="5029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Pe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Native Americans &amp; African Desc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9" name="Text Box 11"/>
          <p:cNvSpPr/>
          <p:nvPr/>
        </p:nvSpPr>
        <p:spPr>
          <a:xfrm>
            <a:off x="2895480" y="3505320"/>
            <a:ext cx="1752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Mestiz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of Nativ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0" name="Text Box 12"/>
          <p:cNvSpPr/>
          <p:nvPr/>
        </p:nvSpPr>
        <p:spPr>
          <a:xfrm>
            <a:off x="4191120" y="3581280"/>
            <a:ext cx="175248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Mulatto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of mix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desce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1" name="Text Box 13"/>
          <p:cNvSpPr/>
          <p:nvPr/>
        </p:nvSpPr>
        <p:spPr>
          <a:xfrm>
            <a:off x="3048120" y="2514600"/>
            <a:ext cx="2361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Creo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of European desce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the coloni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2" name="Text Box 14"/>
          <p:cNvSpPr/>
          <p:nvPr/>
        </p:nvSpPr>
        <p:spPr>
          <a:xfrm>
            <a:off x="3507120" y="1676520"/>
            <a:ext cx="160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Peninsular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bor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ai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3" name="Oval 15"/>
          <p:cNvSpPr/>
          <p:nvPr/>
        </p:nvSpPr>
        <p:spPr>
          <a:xfrm>
            <a:off x="1219320" y="1523880"/>
            <a:ext cx="1523880" cy="8384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4" name="Text Box 16"/>
          <p:cNvSpPr/>
          <p:nvPr/>
        </p:nvSpPr>
        <p:spPr>
          <a:xfrm>
            <a:off x="1600200" y="1600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ow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5" name="Line 17"/>
          <p:cNvSpPr/>
          <p:nvPr/>
        </p:nvSpPr>
        <p:spPr>
          <a:xfrm>
            <a:off x="2743200" y="205740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6" name="Oval 18"/>
          <p:cNvSpPr/>
          <p:nvPr/>
        </p:nvSpPr>
        <p:spPr>
          <a:xfrm>
            <a:off x="5562720" y="1447920"/>
            <a:ext cx="129528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7" name="Text Box 19"/>
          <p:cNvSpPr/>
          <p:nvPr/>
        </p:nvSpPr>
        <p:spPr>
          <a:xfrm>
            <a:off x="5791320" y="15238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Peopl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8" name="Line 20"/>
          <p:cNvSpPr/>
          <p:nvPr/>
        </p:nvSpPr>
        <p:spPr>
          <a:xfrm flipH="1">
            <a:off x="5029200" y="19810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9" name="Oval 21"/>
          <p:cNvSpPr/>
          <p:nvPr/>
        </p:nvSpPr>
        <p:spPr>
          <a:xfrm>
            <a:off x="457200" y="5791320"/>
            <a:ext cx="1295280" cy="7617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0" name="Text Box 22"/>
          <p:cNvSpPr/>
          <p:nvPr/>
        </p:nvSpPr>
        <p:spPr>
          <a:xfrm>
            <a:off x="685800" y="5791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Pow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1" name="Line 23"/>
          <p:cNvSpPr/>
          <p:nvPr/>
        </p:nvSpPr>
        <p:spPr>
          <a:xfrm flipV="1">
            <a:off x="1523880" y="5714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2" name="Oval 24"/>
          <p:cNvSpPr/>
          <p:nvPr/>
        </p:nvSpPr>
        <p:spPr>
          <a:xfrm>
            <a:off x="6781680" y="5791320"/>
            <a:ext cx="1371600" cy="6858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3" name="Text Box 25"/>
          <p:cNvSpPr/>
          <p:nvPr/>
        </p:nvSpPr>
        <p:spPr>
          <a:xfrm>
            <a:off x="7010280" y="5791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eopl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4" name="Line 26"/>
          <p:cNvSpPr/>
          <p:nvPr/>
        </p:nvSpPr>
        <p:spPr>
          <a:xfrm flipH="1" flipV="1">
            <a:off x="6629040" y="5714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5" name="Rectangle 27"/>
          <p:cNvSpPr/>
          <p:nvPr/>
        </p:nvSpPr>
        <p:spPr>
          <a:xfrm>
            <a:off x="685800" y="2438280"/>
            <a:ext cx="23623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6" name="Text Box 28"/>
          <p:cNvSpPr/>
          <p:nvPr/>
        </p:nvSpPr>
        <p:spPr>
          <a:xfrm>
            <a:off x="685800" y="2590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ceroy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anish Governors of colon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7" name="Line 29"/>
          <p:cNvSpPr/>
          <p:nvPr/>
        </p:nvSpPr>
        <p:spPr>
          <a:xfrm flipV="1">
            <a:off x="3048120" y="2209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8" name="AutoShape 30"/>
          <p:cNvSpPr/>
          <p:nvPr/>
        </p:nvSpPr>
        <p:spPr>
          <a:xfrm>
            <a:off x="5181480" y="2438280"/>
            <a:ext cx="3276720" cy="1067040"/>
          </a:xfrm>
          <a:prstGeom prst="leftArrow">
            <a:avLst>
              <a:gd name="adj1" fmla="val 50000"/>
              <a:gd name="adj2" fmla="val 7677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Educated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lacked pow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530" name="Picture 4" descr="p714"/>
          <p:cNvPicPr/>
          <p:nvPr/>
        </p:nvPicPr>
        <p:blipFill>
          <a:blip r:embed="rId1"/>
          <a:stretch/>
        </p:blipFill>
        <p:spPr>
          <a:xfrm>
            <a:off x="1371600" y="533520"/>
            <a:ext cx="71629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ngress of Vienna - 181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etternic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aintain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balance of power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(buffer state) Concert of Europ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Restrain liberalism (Quadruple Allianc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3" name="Picture 4" descr="map-Europe after the Congress of Vienna, 181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35440" y="1981080"/>
            <a:ext cx="5308560" cy="4114800"/>
          </a:xfrm>
          <a:prstGeom prst="rect">
            <a:avLst/>
          </a:prstGeom>
          <a:ln w="9360">
            <a:solidFill>
              <a:srgbClr val="cec8b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rman Nationalis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35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Zollverei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Frankfort Assembly (1848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Otto von Bismarck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(Iron Chancellor)  - 1860s-70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Militar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Favored monarch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Realpolitik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– Denmark, Austrian,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Franco-Prussian War (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1870 – faked EMS telegram); Triple Allianc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Kulturkampf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6" name="Picture 4" descr="ottoengrave"/>
          <p:cNvPicPr/>
          <p:nvPr/>
        </p:nvPicPr>
        <p:blipFill>
          <a:blip r:embed="rId1"/>
          <a:stretch/>
        </p:blipFill>
        <p:spPr>
          <a:xfrm>
            <a:off x="5505480" y="2101680"/>
            <a:ext cx="285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talian Un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azzini – Young Italy (carbonari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Cavour – North Italy (favored Victor Emmanuel II) w/plebisci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Garibaldi – Red Shir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9" name="Picture 4" descr="p716_1"/>
          <p:cNvPicPr/>
          <p:nvPr/>
        </p:nvPicPr>
        <p:blipFill>
          <a:blip r:embed="rId1"/>
          <a:stretch/>
        </p:blipFill>
        <p:spPr>
          <a:xfrm>
            <a:off x="5638680" y="1066680"/>
            <a:ext cx="2846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 Black"/>
              </a:rPr>
              <a:t>Austrian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27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Multinational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of 11 ethnically distinct peoples – Germans, Czechs, Hungarians (Magyars), Slovaks, Romanians, Serbians, and Italian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2" name="Picture 3" descr=""/>
          <p:cNvPicPr/>
          <p:nvPr/>
        </p:nvPicPr>
        <p:blipFill>
          <a:blip r:embed="rId1"/>
          <a:srcRect l="0" t="0" r="1949" b="5039"/>
          <a:stretch/>
        </p:blipFill>
        <p:spPr>
          <a:xfrm>
            <a:off x="4267080" y="2590920"/>
            <a:ext cx="4876920" cy="3956040"/>
          </a:xfrm>
          <a:prstGeom prst="rect">
            <a:avLst/>
          </a:prstGeom>
          <a:ln w="9360">
            <a:solidFill>
              <a:srgbClr val="b0ae6a"/>
            </a:solidFill>
            <a:miter/>
          </a:ln>
        </p:spPr>
      </p:pic>
      <p:sp>
        <p:nvSpPr>
          <p:cNvPr id="3543" name="Rectangle 5"/>
          <p:cNvSpPr/>
          <p:nvPr/>
        </p:nvSpPr>
        <p:spPr>
          <a:xfrm>
            <a:off x="1447920" y="2971800"/>
            <a:ext cx="289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Hungary and Bohemia want own legislature and national arm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Demand for a liberal constit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4" name="AutoShape 6"/>
          <p:cNvSpPr/>
          <p:nvPr/>
        </p:nvSpPr>
        <p:spPr>
          <a:xfrm>
            <a:off x="7696080" y="1447920"/>
            <a:ext cx="609840" cy="685800"/>
          </a:xfrm>
          <a:custGeom>
            <a:avLst/>
            <a:gdLst/>
            <a:ahLst/>
            <a:rect l="l" t="t" r="r" b="b"/>
            <a:pathLst>
              <a:path w="609600" h="685800">
                <a:moveTo>
                  <a:pt x="1" y="261952"/>
                </a:moveTo>
                <a:lnTo>
                  <a:pt x="232848" y="261953"/>
                </a:lnTo>
                <a:lnTo>
                  <a:pt x="304800" y="0"/>
                </a:lnTo>
                <a:lnTo>
                  <a:pt x="376752" y="261953"/>
                </a:lnTo>
                <a:lnTo>
                  <a:pt x="609599" y="261952"/>
                </a:lnTo>
                <a:lnTo>
                  <a:pt x="421221" y="423846"/>
                </a:lnTo>
                <a:lnTo>
                  <a:pt x="493176" y="685798"/>
                </a:lnTo>
                <a:lnTo>
                  <a:pt x="304800" y="523901"/>
                </a:lnTo>
                <a:lnTo>
                  <a:pt x="116424" y="685798"/>
                </a:lnTo>
                <a:lnTo>
                  <a:pt x="188379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ttoman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Greek Revolution 1820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Crimean War 1854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ndependence of Balkan Region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“Powder Keg of Europe”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(spreading influence of Austria-Hungary will create WWI)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Pan-Slav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7" name="Picture 4" descr=""/>
          <p:cNvPicPr/>
          <p:nvPr/>
        </p:nvPicPr>
        <p:blipFill>
          <a:blip r:embed="rId1"/>
          <a:stretch/>
        </p:blipFill>
        <p:spPr>
          <a:xfrm>
            <a:off x="4916520" y="2101680"/>
            <a:ext cx="4227480" cy="4114800"/>
          </a:xfrm>
          <a:prstGeom prst="rect">
            <a:avLst/>
          </a:prstGeom>
          <a:ln w="9360">
            <a:solidFill>
              <a:srgbClr val="b0ae6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Line 2"/>
          <p:cNvSpPr/>
          <p:nvPr/>
        </p:nvSpPr>
        <p:spPr>
          <a:xfrm flipH="1" flipV="1">
            <a:off x="2133360" y="1980720"/>
            <a:ext cx="1143000" cy="6858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9" name="Oval 3"/>
          <p:cNvSpPr/>
          <p:nvPr/>
        </p:nvSpPr>
        <p:spPr>
          <a:xfrm>
            <a:off x="762120" y="121932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Industria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Revolu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0" name="Line 4"/>
          <p:cNvSpPr/>
          <p:nvPr/>
        </p:nvSpPr>
        <p:spPr>
          <a:xfrm flipV="1">
            <a:off x="2057400" y="1218960"/>
            <a:ext cx="762120" cy="152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1" name="Oval 5"/>
          <p:cNvSpPr/>
          <p:nvPr/>
        </p:nvSpPr>
        <p:spPr>
          <a:xfrm>
            <a:off x="2819520" y="762120"/>
            <a:ext cx="1218960" cy="990360"/>
          </a:xfrm>
          <a:prstGeom prst="ellipse">
            <a:avLst/>
          </a:prstGeom>
          <a:solidFill>
            <a:srgbClr val="ffbf7f"/>
          </a:solidFill>
          <a:ln w="0">
            <a:noFill/>
          </a:ln>
          <a:effectLst>
            <a:outerShdw dist="17819" dir="2700000" blurRad="0" rotWithShape="0">
              <a:srgbClr val="9973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Source for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Raw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Material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2" name="Line 6"/>
          <p:cNvSpPr/>
          <p:nvPr/>
        </p:nvSpPr>
        <p:spPr>
          <a:xfrm>
            <a:off x="1523880" y="2286000"/>
            <a:ext cx="152640" cy="4572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3" name="Oval 7"/>
          <p:cNvSpPr/>
          <p:nvPr/>
        </p:nvSpPr>
        <p:spPr>
          <a:xfrm>
            <a:off x="1295280" y="2666880"/>
            <a:ext cx="1219320" cy="990720"/>
          </a:xfrm>
          <a:prstGeom prst="ellipse">
            <a:avLst/>
          </a:prstGeom>
          <a:solidFill>
            <a:srgbClr val="ffbf7f"/>
          </a:solidFill>
          <a:ln w="0">
            <a:noFill/>
          </a:ln>
          <a:effectLst>
            <a:outerShdw dist="17819" dir="2700000" blurRad="0" rotWithShape="0">
              <a:srgbClr val="9973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Markets for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Finished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Good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4" name="Line 8"/>
          <p:cNvSpPr/>
          <p:nvPr/>
        </p:nvSpPr>
        <p:spPr>
          <a:xfrm flipV="1">
            <a:off x="5105520" y="1599840"/>
            <a:ext cx="380880" cy="106668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5" name="Oval 9"/>
          <p:cNvSpPr/>
          <p:nvPr/>
        </p:nvSpPr>
        <p:spPr>
          <a:xfrm>
            <a:off x="4800600" y="53352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European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Nationalis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6" name="Line 10"/>
          <p:cNvSpPr/>
          <p:nvPr/>
        </p:nvSpPr>
        <p:spPr>
          <a:xfrm flipV="1">
            <a:off x="5791320" y="2057040"/>
            <a:ext cx="1371600" cy="6858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7" name="Oval 11"/>
          <p:cNvSpPr/>
          <p:nvPr/>
        </p:nvSpPr>
        <p:spPr>
          <a:xfrm>
            <a:off x="6858000" y="114300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Missionary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Activit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8" name="Line 12"/>
          <p:cNvSpPr/>
          <p:nvPr/>
        </p:nvSpPr>
        <p:spPr>
          <a:xfrm flipV="1">
            <a:off x="5867280" y="3352680"/>
            <a:ext cx="1295640" cy="763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9" name="Oval 13"/>
          <p:cNvSpPr/>
          <p:nvPr/>
        </p:nvSpPr>
        <p:spPr>
          <a:xfrm>
            <a:off x="7162920" y="274320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&amp; Naval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Bas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0" name="Rectangle 14"/>
          <p:cNvSpPr/>
          <p:nvPr/>
        </p:nvSpPr>
        <p:spPr>
          <a:xfrm>
            <a:off x="2971800" y="2514600"/>
            <a:ext cx="2895480" cy="1143000"/>
          </a:xfrm>
          <a:prstGeom prst="rect">
            <a:avLst/>
          </a:prstGeom>
          <a:solidFill>
            <a:srgbClr val="ff9933">
              <a:alpha val="84000"/>
            </a:srgbClr>
          </a:solidFill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ModernBlck"/>
              </a:rPr>
              <a:t>Europe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ModernBlck"/>
              </a:rPr>
              <a:t>Motiv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ModernBlck"/>
              </a:rPr>
              <a:t>For Coloniz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1" name="Line 15"/>
          <p:cNvSpPr/>
          <p:nvPr/>
        </p:nvSpPr>
        <p:spPr>
          <a:xfrm>
            <a:off x="5791320" y="3657600"/>
            <a:ext cx="1143000" cy="9144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2" name="Oval 16"/>
          <p:cNvSpPr/>
          <p:nvPr/>
        </p:nvSpPr>
        <p:spPr>
          <a:xfrm>
            <a:off x="6705720" y="441972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b5249"/>
                </a:solidFill>
                <a:latin typeface="Comic Sans MS"/>
              </a:rPr>
              <a:t>Places to</a:t>
            </a:r>
            <a:br>
              <a:rPr sz="1300"/>
            </a:br>
            <a:r>
              <a:rPr b="1" lang="en-US" sz="1300" spc="-1" strike="noStrike">
                <a:solidFill>
                  <a:srgbClr val="5b5249"/>
                </a:solidFill>
                <a:latin typeface="Comic Sans MS"/>
              </a:rPr>
              <a:t>Dump</a:t>
            </a:r>
            <a:br>
              <a:rPr sz="1300"/>
            </a:br>
            <a:r>
              <a:rPr b="1" lang="en-US" sz="1300" spc="-1" strike="noStrike">
                <a:solidFill>
                  <a:srgbClr val="5b5249"/>
                </a:solidFill>
                <a:latin typeface="Comic Sans MS"/>
              </a:rPr>
              <a:t>Unwanted/</a:t>
            </a:r>
            <a:br>
              <a:rPr sz="1300"/>
            </a:br>
            <a:r>
              <a:rPr b="1" lang="en-US" sz="1300" spc="-1" strike="noStrike">
                <a:solidFill>
                  <a:srgbClr val="5b5249"/>
                </a:solidFill>
                <a:latin typeface="Comic Sans MS"/>
              </a:rPr>
              <a:t>Excess Popul.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3" name="Line 17"/>
          <p:cNvSpPr/>
          <p:nvPr/>
        </p:nvSpPr>
        <p:spPr>
          <a:xfrm>
            <a:off x="4800600" y="3657600"/>
            <a:ext cx="990720" cy="16765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4" name="Oval 18"/>
          <p:cNvSpPr/>
          <p:nvPr/>
        </p:nvSpPr>
        <p:spPr>
          <a:xfrm>
            <a:off x="5181480" y="5334120"/>
            <a:ext cx="152424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Soc. &amp; Eco.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Opportuniti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5" name="Line 19"/>
          <p:cNvSpPr/>
          <p:nvPr/>
        </p:nvSpPr>
        <p:spPr>
          <a:xfrm flipH="1">
            <a:off x="3885840" y="3657600"/>
            <a:ext cx="152280" cy="16002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6" name="Oval 20"/>
          <p:cNvSpPr/>
          <p:nvPr/>
        </p:nvSpPr>
        <p:spPr>
          <a:xfrm>
            <a:off x="3124080" y="5257800"/>
            <a:ext cx="152424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Humanitarian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Reason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7" name="Line 21"/>
          <p:cNvSpPr/>
          <p:nvPr/>
        </p:nvSpPr>
        <p:spPr>
          <a:xfrm flipH="1">
            <a:off x="2057400" y="3657600"/>
            <a:ext cx="914400" cy="76212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8" name="Oval 22"/>
          <p:cNvSpPr/>
          <p:nvPr/>
        </p:nvSpPr>
        <p:spPr>
          <a:xfrm>
            <a:off x="1219320" y="4419720"/>
            <a:ext cx="1523880" cy="1066680"/>
          </a:xfrm>
          <a:prstGeom prst="ellipse">
            <a:avLst/>
          </a:prstGeom>
          <a:solidFill>
            <a:srgbClr val="ffffbd"/>
          </a:solidFill>
          <a:ln w="0">
            <a:noFill/>
          </a:ln>
          <a:effectLst>
            <a:outerShdw dist="17819" dir="2700000" blurRad="0" rotWithShape="0">
              <a:srgbClr val="999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European</a:t>
            </a:r>
            <a:br>
              <a:rPr sz="1600"/>
            </a:br>
            <a:r>
              <a:rPr b="1" lang="en-US" sz="1600" spc="-1" strike="noStrike">
                <a:solidFill>
                  <a:srgbClr val="5b5249"/>
                </a:solidFill>
                <a:latin typeface="Comic Sans MS"/>
              </a:rPr>
              <a:t>Racis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9" name="Line 23"/>
          <p:cNvSpPr/>
          <p:nvPr/>
        </p:nvSpPr>
        <p:spPr>
          <a:xfrm>
            <a:off x="2057400" y="5486400"/>
            <a:ext cx="152280" cy="2286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0" name="Oval 24"/>
          <p:cNvSpPr/>
          <p:nvPr/>
        </p:nvSpPr>
        <p:spPr>
          <a:xfrm>
            <a:off x="1752480" y="5715000"/>
            <a:ext cx="1219320" cy="838080"/>
          </a:xfrm>
          <a:prstGeom prst="ellipse">
            <a:avLst/>
          </a:prstGeom>
          <a:solidFill>
            <a:srgbClr val="ffbf7f"/>
          </a:solidFill>
          <a:ln w="0">
            <a:noFill/>
          </a:ln>
          <a:effectLst>
            <a:outerShdw dist="17819" dir="2700000" blurRad="0" rotWithShape="0">
              <a:srgbClr val="9973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“</a:t>
            </a: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White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Man’s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Burden”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1" name="Line 25"/>
          <p:cNvSpPr/>
          <p:nvPr/>
        </p:nvSpPr>
        <p:spPr>
          <a:xfrm flipH="1" flipV="1">
            <a:off x="1142640" y="4495680"/>
            <a:ext cx="228600" cy="763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2" name="Oval 26"/>
          <p:cNvSpPr/>
          <p:nvPr/>
        </p:nvSpPr>
        <p:spPr>
          <a:xfrm>
            <a:off x="228600" y="3733920"/>
            <a:ext cx="1219320" cy="838080"/>
          </a:xfrm>
          <a:prstGeom prst="ellipse">
            <a:avLst/>
          </a:prstGeom>
          <a:solidFill>
            <a:srgbClr val="ffbf7f"/>
          </a:solidFill>
          <a:ln w="0">
            <a:noFill/>
          </a:ln>
          <a:effectLst>
            <a:outerShdw dist="17819" dir="2700000" blurRad="0" rotWithShape="0">
              <a:srgbClr val="9973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Social</a:t>
            </a:r>
            <a:br>
              <a:rPr sz="1400"/>
            </a:br>
            <a:r>
              <a:rPr b="1" lang="en-US" sz="1400" spc="-1" strike="noStrike">
                <a:solidFill>
                  <a:srgbClr val="5b5249"/>
                </a:solidFill>
                <a:latin typeface="Comic Sans MS"/>
              </a:rPr>
              <a:t>Darwinis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3" name="AutoShape 27"/>
          <p:cNvSpPr/>
          <p:nvPr/>
        </p:nvSpPr>
        <p:spPr>
          <a:xfrm>
            <a:off x="457200" y="228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ults of Agrarian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3402" name="Content Placeholder 51202"/>
          <p:cNvGrpSpPr/>
          <p:nvPr/>
        </p:nvGrpSpPr>
        <p:grpSpPr>
          <a:xfrm>
            <a:off x="1128600" y="2094120"/>
            <a:ext cx="7602120" cy="3235680"/>
            <a:chOff x="1128600" y="2094120"/>
            <a:chExt cx="7602120" cy="3235680"/>
          </a:xfrm>
        </p:grpSpPr>
        <p:cxnSp>
          <p:nvCxnSpPr>
            <p:cNvPr id="3403" name="_s1028"/>
            <p:cNvCxnSpPr>
              <a:stCxn id="3404" idx="1"/>
              <a:endCxn id="3405" idx="2"/>
            </p:cNvCxnSpPr>
            <p:nvPr/>
          </p:nvCxnSpPr>
          <p:spPr>
            <a:xfrm rot="10800000">
              <a:off x="4453920" y="4485600"/>
              <a:ext cx="283320" cy="520920"/>
            </a:xfrm>
            <a:prstGeom prst="bentConnector2">
              <a:avLst/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06" name="_s1029"/>
            <p:cNvCxnSpPr>
              <a:stCxn id="3407" idx="0"/>
              <a:endCxn id="3408" idx="2"/>
            </p:cNvCxnSpPr>
            <p:nvPr/>
          </p:nvCxnSpPr>
          <p:spPr>
            <a:xfrm flipH="1" flipV="1" rot="5400000">
              <a:off x="2048040" y="3623760"/>
              <a:ext cx="182520" cy="288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09" name="_s1030"/>
            <p:cNvCxnSpPr>
              <a:stCxn id="3405" idx="0"/>
              <a:endCxn id="3410" idx="2"/>
            </p:cNvCxnSpPr>
            <p:nvPr/>
          </p:nvCxnSpPr>
          <p:spPr>
            <a:xfrm flipH="1" flipV="1" rot="5400000">
              <a:off x="4957920" y="3030120"/>
              <a:ext cx="182520" cy="118980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11" name="_s1031"/>
            <p:cNvCxnSpPr>
              <a:stCxn id="3412" idx="0"/>
              <a:endCxn id="3413" idx="2"/>
            </p:cNvCxnSpPr>
            <p:nvPr/>
          </p:nvCxnSpPr>
          <p:spPr>
            <a:xfrm flipH="1" flipV="1" rot="5400000">
              <a:off x="7630920" y="3623760"/>
              <a:ext cx="182520" cy="252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14" name="_s1032"/>
            <p:cNvCxnSpPr>
              <a:stCxn id="3413" idx="0"/>
              <a:endCxn id="3415" idx="2"/>
            </p:cNvCxnSpPr>
            <p:nvPr/>
          </p:nvCxnSpPr>
          <p:spPr>
            <a:xfrm flipV="1" rot="16200000">
              <a:off x="6233760" y="1593000"/>
              <a:ext cx="184320" cy="279396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16" name="_s1033"/>
            <p:cNvCxnSpPr>
              <a:stCxn id="3410" idx="0"/>
              <a:endCxn id="3415" idx="2"/>
            </p:cNvCxnSpPr>
            <p:nvPr/>
          </p:nvCxnSpPr>
          <p:spPr>
            <a:xfrm flipV="1" rot="16200000">
              <a:off x="5194440" y="2632320"/>
              <a:ext cx="184320" cy="71496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5b5249"/>
              </a:solidFill>
              <a:miter/>
            </a:ln>
          </p:spPr>
        </p:cxnSp>
        <p:cxnSp>
          <p:nvCxnSpPr>
            <p:cNvPr id="3417" name="_s1034"/>
            <p:cNvCxnSpPr>
              <a:stCxn id="3408" idx="0"/>
              <a:endCxn id="3415" idx="2"/>
            </p:cNvCxnSpPr>
            <p:nvPr/>
          </p:nvCxnSpPr>
          <p:spPr>
            <a:xfrm flipH="1" flipV="1" rot="5400000">
              <a:off x="3442680" y="1595160"/>
              <a:ext cx="184320" cy="279000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5b5249"/>
              </a:solidFill>
              <a:miter/>
            </a:ln>
          </p:spPr>
        </p:cxnSp>
        <p:sp>
          <p:nvSpPr>
            <p:cNvPr id="3415" name="_s1035"/>
            <p:cNvSpPr/>
            <p:nvPr/>
          </p:nvSpPr>
          <p:spPr>
            <a:xfrm>
              <a:off x="3143880" y="2094120"/>
              <a:ext cx="3574080" cy="7905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5b5249"/>
                  </a:solidFill>
                  <a:latin typeface="Arial"/>
                </a:rPr>
                <a:t>Food Surplus</a:t>
              </a:r>
              <a:endParaRPr b="0" lang="en-US" sz="3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8" name="_s1036"/>
            <p:cNvSpPr/>
            <p:nvPr/>
          </p:nvSpPr>
          <p:spPr>
            <a:xfrm>
              <a:off x="1248120" y="3096720"/>
              <a:ext cx="178164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More People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0" name="_s1037"/>
            <p:cNvSpPr/>
            <p:nvPr/>
          </p:nvSpPr>
          <p:spPr>
            <a:xfrm>
              <a:off x="4752000" y="3096720"/>
              <a:ext cx="178164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5b5249"/>
                  </a:solidFill>
                  <a:latin typeface="Arial"/>
                </a:rPr>
                <a:t>Excess Capital</a:t>
              </a:r>
              <a:endParaRPr b="0" lang="en-US" sz="1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3" name="_s1038"/>
            <p:cNvSpPr/>
            <p:nvPr/>
          </p:nvSpPr>
          <p:spPr>
            <a:xfrm>
              <a:off x="6831000" y="3096720"/>
              <a:ext cx="178200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Trade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12" name="_s1039"/>
            <p:cNvSpPr/>
            <p:nvPr/>
          </p:nvSpPr>
          <p:spPr>
            <a:xfrm>
              <a:off x="6711840" y="3730680"/>
              <a:ext cx="201888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New Markets 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Needed 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(Imperialism)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5" name="_s1040"/>
            <p:cNvSpPr/>
            <p:nvPr/>
          </p:nvSpPr>
          <p:spPr>
            <a:xfrm>
              <a:off x="3445200" y="3730680"/>
              <a:ext cx="201888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5b5249"/>
                  </a:solidFill>
                  <a:latin typeface="Arial"/>
                </a:rPr>
                <a:t>Invest in Inventions</a:t>
              </a:r>
              <a:endParaRPr b="0" lang="en-US" sz="1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7" name="_s1041"/>
            <p:cNvSpPr/>
            <p:nvPr/>
          </p:nvSpPr>
          <p:spPr>
            <a:xfrm>
              <a:off x="1128600" y="3730680"/>
              <a:ext cx="201924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b5249"/>
                  </a:solidFill>
                  <a:latin typeface="Arial"/>
                </a:rPr>
                <a:t>Need More Stuff</a:t>
              </a:r>
              <a:endParaRPr b="0" lang="en-US" sz="13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04" name="_s1042"/>
            <p:cNvSpPr/>
            <p:nvPr/>
          </p:nvSpPr>
          <p:spPr>
            <a:xfrm>
              <a:off x="4752000" y="4683240"/>
              <a:ext cx="2054520" cy="6465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b5249"/>
                  </a:solidFill>
                  <a:latin typeface="Arial"/>
                </a:rPr>
                <a:t>Rise of Bourgeoisie 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b5249"/>
                  </a:solidFill>
                  <a:latin typeface="Arial"/>
                </a:rPr>
                <a:t>Capitalist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frican Imperialism - Caus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Humanitarian” – Queen Victoria sponsored Livingstone’s missionary work, Kipling’s </a:t>
            </a:r>
            <a:r>
              <a:rPr b="1" lang="en-US" sz="2800" spc="-1" strike="noStrike">
                <a:solidFill>
                  <a:srgbClr val="991f0b"/>
                </a:solidFill>
                <a:latin typeface="Arial"/>
                <a:ea typeface="Arial"/>
              </a:rPr>
              <a:t>White Man’s Burden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(social-Darwinian bi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Need for Raw Materials – gold, rubber (Congo), cotton (Egypt), palm o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Nationalism – Scramble for Africa (no longer expansion in Europe due to Congress of Vienna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ilitary Ba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New Technology – quinine, cartography, maxim machine gun, steam ships, telegrap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Rectangle 2"/>
          <p:cNvSpPr/>
          <p:nvPr/>
        </p:nvSpPr>
        <p:spPr>
          <a:xfrm>
            <a:off x="1143000" y="1066680"/>
            <a:ext cx="480060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ake up the White Man's burden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Send forth the best ye breed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Go, bind your sons to exil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o serve your captive's need;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o wait, in heavy harness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On fluttered folk and wild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Your new-caught sullen peoples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Half devil and half child. 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ake up the White Man's burden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And reap his old reward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he blame of those ye better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he hate of those ye guard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The cry of those ye humor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(Ah, slowly!) toward the light:--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"Why brought ye us from bondage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Our loved Egyptian night?"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7" name="Rectangle 3"/>
          <p:cNvSpPr/>
          <p:nvPr/>
        </p:nvSpPr>
        <p:spPr>
          <a:xfrm rot="1046400">
            <a:off x="5306400" y="909360"/>
            <a:ext cx="35812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White Man's Burd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by Rudyard Kipl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First published in </a:t>
            </a:r>
            <a:r>
              <a:rPr b="0" i="1" lang="en-US" sz="2400" spc="-1" strike="noStrike">
                <a:solidFill>
                  <a:srgbClr val="5b5249"/>
                </a:solidFill>
                <a:latin typeface="Arial"/>
              </a:rPr>
              <a:t>McClure's Magazine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 (Feb. 1899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erial Conflic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cramble for Afric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343400" y="2101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Cecil Rhodes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– de Beer’s Mining Company /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Cape to Cairo Railroad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Zulu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wars – England wins due to better technolog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Boer War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– 1899-1902 between England and Dutch farmers  (established apartheid to appease Dutch farmer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King Leopold’s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abuse of natives in Cong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2" name="Picture 5" descr="rhodes"/>
          <p:cNvPicPr/>
          <p:nvPr/>
        </p:nvPicPr>
        <p:blipFill>
          <a:blip r:embed="rId1"/>
          <a:stretch/>
        </p:blipFill>
        <p:spPr>
          <a:xfrm>
            <a:off x="609480" y="2641680"/>
            <a:ext cx="3079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erlin Conference - 1885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lled for by Otto von Bismarc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reat of King Leopold’s Cong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Nativ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5" name="Picture 3" descr="africa 1885-1914"/>
          <p:cNvPicPr/>
          <p:nvPr/>
        </p:nvPicPr>
        <p:blipFill>
          <a:blip r:embed="rId1"/>
          <a:stretch/>
        </p:blipFill>
        <p:spPr>
          <a:xfrm>
            <a:off x="3962520" y="2286000"/>
            <a:ext cx="49528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Text Box 2"/>
          <p:cNvSpPr/>
          <p:nvPr/>
        </p:nvSpPr>
        <p:spPr>
          <a:xfrm>
            <a:off x="1327680" y="914400"/>
            <a:ext cx="27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oper Black"/>
              </a:rPr>
              <a:t>British Eas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oper Black"/>
              </a:rPr>
              <a:t>India Compan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7" name="Text Box 3"/>
          <p:cNvSpPr/>
          <p:nvPr/>
        </p:nvSpPr>
        <p:spPr>
          <a:xfrm>
            <a:off x="457200" y="198108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ook advantage of religious conflicts of     Hindus and Muslim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Founded in 1600 to sell Indian products       such as cotton, silk, sugar and ju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1756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bert Clive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 raised an army of native soldiers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poys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) to support gov’ts favorable to British East India Company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8" name="Picture 4" descr="New Arrow"/>
          <p:cNvPicPr/>
          <p:nvPr/>
        </p:nvPicPr>
        <p:blipFill>
          <a:blip r:embed="rId1"/>
          <a:stretch/>
        </p:blipFill>
        <p:spPr>
          <a:xfrm>
            <a:off x="1523880" y="502920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5"/>
          <p:cNvSpPr/>
          <p:nvPr/>
        </p:nvSpPr>
        <p:spPr>
          <a:xfrm>
            <a:off x="3276720" y="480060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Commercial Colonialism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” – controlled foreign trade and used native army to keep local rulers in power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90" name="Picture 6" descr="Robert Clive-1"/>
          <p:cNvPicPr/>
          <p:nvPr/>
        </p:nvPicPr>
        <p:blipFill>
          <a:blip r:embed="rId2">
            <a:lum contrast="6000"/>
          </a:blip>
          <a:srcRect l="0" t="0" r="5154" b="6778"/>
          <a:stretch/>
        </p:blipFill>
        <p:spPr>
          <a:xfrm>
            <a:off x="6643800" y="0"/>
            <a:ext cx="2500200" cy="33526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2743200" y="380520"/>
            <a:ext cx="612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Sepoy Mutiny - 1857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609480" y="35812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Rumor Started: The rifle cartridges that were distributed to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epoys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(bitten to remove a cover before being inserted into a gun) had been greased with beef and pork fat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571640" y="43434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Muslim Sepoys who were not supposed to consume pork, and the Hindu Sepoys who were not supposed to eat beef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94" name="Picture 5" descr="Photograph showing Indian soldiers in the Empire uniform (reconstruction)"/>
          <p:cNvPicPr/>
          <p:nvPr/>
        </p:nvPicPr>
        <p:blipFill>
          <a:blip r:embed="rId1"/>
          <a:stretch/>
        </p:blipFill>
        <p:spPr>
          <a:xfrm>
            <a:off x="5410080" y="1676520"/>
            <a:ext cx="2514600" cy="2590560"/>
          </a:xfrm>
          <a:prstGeom prst="rect">
            <a:avLst/>
          </a:prstGeom>
          <a:ln w="0">
            <a:noFill/>
          </a:ln>
        </p:spPr>
      </p:pic>
      <p:pic>
        <p:nvPicPr>
          <p:cNvPr id="3595" name="Picture 6" descr="Sepoys"/>
          <p:cNvPicPr/>
          <p:nvPr/>
        </p:nvPicPr>
        <p:blipFill>
          <a:blip r:embed="rId2"/>
          <a:srcRect l="0" t="0" r="6204" b="5717"/>
          <a:stretch/>
        </p:blipFill>
        <p:spPr>
          <a:xfrm>
            <a:off x="0" y="0"/>
            <a:ext cx="2695680" cy="3505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3596" name="AutoShape 7"/>
          <p:cNvSpPr/>
          <p:nvPr/>
        </p:nvSpPr>
        <p:spPr>
          <a:xfrm>
            <a:off x="3352680" y="2362320"/>
            <a:ext cx="1524240" cy="838080"/>
          </a:xfrm>
          <a:custGeom>
            <a:avLst/>
            <a:gdLst/>
            <a:ahLst/>
            <a:rect l="l" t="t" r="r" b="b"/>
            <a:pathLst>
              <a:path w="1524000" h="838200">
                <a:moveTo>
                  <a:pt x="2" y="320163"/>
                </a:moveTo>
                <a:lnTo>
                  <a:pt x="582119" y="320165"/>
                </a:lnTo>
                <a:lnTo>
                  <a:pt x="762000" y="0"/>
                </a:lnTo>
                <a:lnTo>
                  <a:pt x="941881" y="320165"/>
                </a:lnTo>
                <a:lnTo>
                  <a:pt x="1523998" y="320163"/>
                </a:lnTo>
                <a:lnTo>
                  <a:pt x="1053053" y="518034"/>
                </a:lnTo>
                <a:lnTo>
                  <a:pt x="1232941" y="838198"/>
                </a:lnTo>
                <a:lnTo>
                  <a:pt x="762000" y="640323"/>
                </a:lnTo>
                <a:lnTo>
                  <a:pt x="291059" y="838198"/>
                </a:lnTo>
                <a:lnTo>
                  <a:pt x="470947" y="518034"/>
                </a:lnTo>
                <a:lnTo>
                  <a:pt x="2" y="320163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WordArt 2"/>
          <p:cNvSpPr txBox="1"/>
          <p:nvPr/>
        </p:nvSpPr>
        <p:spPr>
          <a:xfrm>
            <a:off x="838080" y="609480"/>
            <a:ext cx="2895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Gill Sans Ultra Bold Condensed"/>
              </a:rPr>
              <a:t>The Raj: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Gill Sans Ultra Bold Condensed"/>
              </a:rPr>
              <a:t>"Jewel in the Crown"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Gill Sans Ultra Bold Condensed"/>
              </a:rPr>
              <a:t>of the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Gill Sans Ultra Bold Condensed"/>
              <a:ea typeface="Gill Sans Ultra Bold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Gill Sans Ultra Bold Condensed"/>
              </a:rPr>
              <a:t>British Empire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pic>
        <p:nvPicPr>
          <p:cNvPr id="3598" name="Picture 3" descr="Imperial Indian Flag"/>
          <p:cNvPicPr/>
          <p:nvPr/>
        </p:nvPicPr>
        <p:blipFill>
          <a:blip r:embed="rId1"/>
          <a:stretch/>
        </p:blipFill>
        <p:spPr>
          <a:xfrm>
            <a:off x="6324480" y="380880"/>
            <a:ext cx="2057400" cy="1035000"/>
          </a:xfrm>
          <a:prstGeom prst="rect">
            <a:avLst/>
          </a:prstGeom>
          <a:ln w="0">
            <a:noFill/>
          </a:ln>
        </p:spPr>
      </p:pic>
      <p:pic>
        <p:nvPicPr>
          <p:cNvPr id="3599" name="Picture 4" descr="Disraeli giving Victoria the Jewel in the Crown"/>
          <p:cNvPicPr/>
          <p:nvPr/>
        </p:nvPicPr>
        <p:blipFill>
          <a:blip r:embed="rId2"/>
          <a:stretch/>
        </p:blipFill>
        <p:spPr>
          <a:xfrm>
            <a:off x="5867280" y="2666880"/>
            <a:ext cx="2870280" cy="3733920"/>
          </a:xfrm>
          <a:prstGeom prst="rect">
            <a:avLst/>
          </a:prstGeom>
          <a:ln w="0">
            <a:noFill/>
          </a:ln>
        </p:spPr>
      </p:pic>
      <p:sp>
        <p:nvSpPr>
          <p:cNvPr id="3600" name="Text Box 5"/>
          <p:cNvSpPr/>
          <p:nvPr/>
        </p:nvSpPr>
        <p:spPr>
          <a:xfrm>
            <a:off x="609480" y="2590920"/>
            <a:ext cx="50292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Direct Colony –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Modern system of progressive secondary education (to train Indian civil servants)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mproved health ca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economic reforms (irrigation, railroads, tea and jute plantations)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creation of unified and powerful sta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End sutte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ec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1" name="Rectangle 6"/>
          <p:cNvSpPr/>
          <p:nvPr/>
        </p:nvSpPr>
        <p:spPr>
          <a:xfrm>
            <a:off x="4267080" y="1828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Raj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—term for British rule over India, lasts from 175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to 194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Negative Impacts of colonization on India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British hold much of political and economic pow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ash crops result in loss of self-sufficiency, fam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ndian life disrupted by missionaries and racist attitud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ritish textile industry puts out of work native indust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Zamindar system of tax collection is corrup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Fails to bring benefits of modern science and technolog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Reforms –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INC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by Nehru and Gandhi – 1885;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Muslim League 1905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pheres of Influence in Chi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1700s – unfavorable balance of trade, one city Canton open, 1793 Lord Macartney attempted op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Imported Opium, Manchus forbid i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1839 –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Opium War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– British won due to better technolog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1842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Treat of Nanjing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 (unequal) – open ports, extraterritoriality, Hong Kong to England, reparatio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6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Warlords negotiate </a:t>
            </a: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spheres of influenc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merican – Open Door Polic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  <a:ea typeface="Arial"/>
              </a:rPr>
              <a:t>Resistance – Taiping and Boxer Rebell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07" name="Picture 4" descr="Western factories in Canton, China."/>
          <p:cNvPicPr/>
          <p:nvPr/>
        </p:nvPicPr>
        <p:blipFill>
          <a:blip r:embed="rId1"/>
          <a:stretch/>
        </p:blipFill>
        <p:spPr>
          <a:xfrm>
            <a:off x="4876920" y="3886200"/>
            <a:ext cx="37335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inese Revolution - 191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auses:  discontent of peasants with Qing’s losses in Opium War and Sino-Japanese (1895) with Taiping and later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Boxer Rebellions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(1900); spread of reform ideas among Western-educated Chine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Self-Strengthening Movem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owager Empress Cixi - Opposed all reform – pro-Western treas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Sun Yat-sen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– father of modern Chin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-400680">
              <a:lnSpc>
                <a:spcPct val="8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hree Principles of the Peop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1.  Constitutional democrac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2.  No Foreigner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3.  State control over essential industri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0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esults - Chiang Kai-shek leads nationalist republic (Kuomintang) in civil war against communist Ma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10" name="Picture 4" descr="sun"/>
          <p:cNvPicPr/>
          <p:nvPr/>
        </p:nvPicPr>
        <p:blipFill>
          <a:blip r:embed="rId1"/>
          <a:stretch/>
        </p:blipFill>
        <p:spPr>
          <a:xfrm>
            <a:off x="6959520" y="228600"/>
            <a:ext cx="2184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First vs. Second Industrial Revolution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First Industrial Revolution – (1750-1850) new agricultural methods, textiles, railroads, iron, and coa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Second Industrial Revolution (1870-1914) – steel, chemicals, electricity, telephone, automobile and petroleum (Whitney – standardized part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20" name="Picture 4" descr="rural"/>
          <p:cNvPicPr/>
          <p:nvPr/>
        </p:nvPicPr>
        <p:blipFill>
          <a:blip r:embed="rId1"/>
          <a:stretch/>
        </p:blipFill>
        <p:spPr>
          <a:xfrm>
            <a:off x="2133720" y="4768920"/>
            <a:ext cx="1790640" cy="1266840"/>
          </a:xfrm>
          <a:prstGeom prst="rect">
            <a:avLst/>
          </a:prstGeom>
          <a:ln w="0">
            <a:noFill/>
          </a:ln>
        </p:spPr>
      </p:pic>
      <p:pic>
        <p:nvPicPr>
          <p:cNvPr id="3421" name="Picture 5" descr="arrow"/>
          <p:cNvPicPr/>
          <p:nvPr/>
        </p:nvPicPr>
        <p:blipFill>
          <a:blip r:embed="rId2"/>
          <a:stretch/>
        </p:blipFill>
        <p:spPr>
          <a:xfrm>
            <a:off x="4343400" y="4921200"/>
            <a:ext cx="1171440" cy="961920"/>
          </a:xfrm>
          <a:prstGeom prst="rect">
            <a:avLst/>
          </a:prstGeom>
          <a:ln w="0">
            <a:noFill/>
          </a:ln>
        </p:spPr>
      </p:pic>
      <p:pic>
        <p:nvPicPr>
          <p:cNvPr id="3422" name="Picture 6" descr="urban"/>
          <p:cNvPicPr/>
          <p:nvPr/>
        </p:nvPicPr>
        <p:blipFill>
          <a:blip r:embed="rId3"/>
          <a:stretch/>
        </p:blipFill>
        <p:spPr>
          <a:xfrm>
            <a:off x="6248520" y="4876920"/>
            <a:ext cx="18572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Japan’s Rea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533520" y="21016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mmodore Matthew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Perry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– 1853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reaty of Kanagaw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Meiji Restoration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-  (1868-1912); Westernizes AND Modernize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lonizes –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  <a:ea typeface="Arial"/>
              </a:rPr>
              <a:t>Sino-Japanese &amp; Russo-Japanese War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 (1905) because Japan LACKS NATURAL RESOURC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13" name="Picture 4" descr="Europeans in Japan during the Meiji Restoration"/>
          <p:cNvPicPr/>
          <p:nvPr/>
        </p:nvPicPr>
        <p:blipFill>
          <a:blip r:embed="rId1"/>
          <a:stretch/>
        </p:blipFill>
        <p:spPr>
          <a:xfrm>
            <a:off x="5715000" y="2133720"/>
            <a:ext cx="29145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dustrial Revolution - Cau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Shift from Cottage/Domestic Industry (people make at home) to Factory System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Cause – </a:t>
            </a:r>
            <a:r>
              <a:rPr b="1" lang="en-US" sz="24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Rising Populati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on due to Agrarian Revolution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Started with Textiles (Flying Shuttle, Spinning Jenny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25" name="Picture 4" descr="Spinning Jenny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76960" y="1447920"/>
            <a:ext cx="3767040" cy="4114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Text Box 2"/>
          <p:cNvSpPr/>
          <p:nvPr/>
        </p:nvSpPr>
        <p:spPr>
          <a:xfrm>
            <a:off x="533520" y="43164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heshireBroad"/>
              </a:rPr>
              <a:t>England Industrialized First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7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396216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b5249"/>
                </a:solidFill>
                <a:uFillTx/>
                <a:latin typeface="Times New Roman"/>
              </a:rPr>
              <a:t>Good Harbor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b5249"/>
                </a:solidFill>
                <a:uFillTx/>
                <a:latin typeface="Times New Roman"/>
              </a:rPr>
              <a:t>Natural Supply of Coal and Ir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oose gov’t regulations (</a:t>
            </a:r>
            <a:r>
              <a:rPr b="1" lang="en-US" sz="2400" spc="-1" strike="noStrike">
                <a:solidFill>
                  <a:srgbClr val="991f0b"/>
                </a:solidFill>
                <a:latin typeface="Times New Roman"/>
              </a:rPr>
              <a:t>laissez-faire – </a:t>
            </a:r>
            <a:r>
              <a:rPr b="1" i="1" lang="en-US" sz="2400" spc="-1" strike="noStrike">
                <a:solidFill>
                  <a:srgbClr val="991f0b"/>
                </a:solidFill>
                <a:latin typeface="Times New Roman"/>
              </a:rPr>
              <a:t>Wealth of Nations</a:t>
            </a:r>
            <a:r>
              <a:rPr b="1" lang="en-US" sz="2400" spc="-1" strike="noStrike">
                <a:solidFill>
                  <a:srgbClr val="991f0b"/>
                </a:solidFill>
                <a:latin typeface="Times New Roman"/>
              </a:rPr>
              <a:t> – Adam Smith 1776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) with political stabil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ots of capital to invest due to colonies in America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28" name="Picture 7" descr="http://2.bp.blogspot.com/-xLxZMzvhqiQ/TiBysOJz8cI/AAAAAAAABPY/NKbd1r9pTy8/s1600/England-Map-on-Europe.gif"/>
          <p:cNvPicPr/>
          <p:nvPr/>
        </p:nvPicPr>
        <p:blipFill>
          <a:blip r:embed="rId1"/>
          <a:stretch/>
        </p:blipFill>
        <p:spPr>
          <a:xfrm>
            <a:off x="5105520" y="0"/>
            <a:ext cx="3657600" cy="3448080"/>
          </a:xfrm>
          <a:prstGeom prst="rect">
            <a:avLst/>
          </a:prstGeom>
          <a:ln w="0">
            <a:noFill/>
          </a:ln>
        </p:spPr>
      </p:pic>
      <p:pic>
        <p:nvPicPr>
          <p:cNvPr id="3429" name="" descr=""/>
          <p:cNvPicPr/>
          <p:nvPr/>
        </p:nvPicPr>
        <p:blipFill>
          <a:blip r:embed="rId2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sults of Industrial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rb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e of Women &amp; Children as Labo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l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w Energy – water, coal, and electric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w Transportation – canal, trains, cars, pla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mperialis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2" name=""/>
          <p:cNvSpPr txBox="1"/>
          <p:nvPr/>
        </p:nvSpPr>
        <p:spPr>
          <a:xfrm>
            <a:off x="49528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w Social Class – middle (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ourgeoisie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 and lower – factory worker (</a:t>
            </a:r>
            <a:r>
              <a:rPr b="1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proletaria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ealth now based on factory ownership (capitalis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434" name="Content Placeholder 54274"/>
          <p:cNvGrpSpPr/>
          <p:nvPr/>
        </p:nvGrpSpPr>
        <p:grpSpPr>
          <a:xfrm>
            <a:off x="186480" y="1656360"/>
            <a:ext cx="8401680" cy="4476240"/>
            <a:chOff x="186480" y="1656360"/>
            <a:chExt cx="8401680" cy="4476240"/>
          </a:xfrm>
        </p:grpSpPr>
        <p:cxnSp>
          <p:nvCxnSpPr>
            <p:cNvPr id="3435" name="_s2052"/>
            <p:cNvCxnSpPr>
              <a:stCxn id="3436" idx="1"/>
              <a:endCxn id="3437" idx="2"/>
            </p:cNvCxnSpPr>
            <p:nvPr/>
          </p:nvCxnSpPr>
          <p:spPr>
            <a:xfrm rot="10800000">
              <a:off x="4408200" y="5044680"/>
              <a:ext cx="315000" cy="624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438" name="_s2053"/>
            <p:cNvCxnSpPr>
              <a:stCxn id="3437" idx="1"/>
              <a:endCxn id="3439" idx="2"/>
            </p:cNvCxnSpPr>
            <p:nvPr/>
          </p:nvCxnSpPr>
          <p:spPr>
            <a:xfrm rot="10800000">
              <a:off x="2033280" y="4157280"/>
              <a:ext cx="316800" cy="525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440" name="_s2054"/>
            <p:cNvCxnSpPr>
              <a:stCxn id="3439" idx="0"/>
              <a:endCxn id="3441" idx="2"/>
            </p:cNvCxnSpPr>
            <p:nvPr/>
          </p:nvCxnSpPr>
          <p:spPr>
            <a:xfrm flipH="1" flipV="1" rot="5400000">
              <a:off x="3129120" y="2247120"/>
              <a:ext cx="162720" cy="2353680"/>
            </a:xfrm>
            <a:prstGeom prst="bentConnector3">
              <a:avLst>
                <a:gd name="adj1" fmla="val 4988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442" name="_s2055"/>
            <p:cNvCxnSpPr>
              <a:stCxn id="3441" idx="0"/>
              <a:endCxn id="3443" idx="2"/>
            </p:cNvCxnSpPr>
            <p:nvPr/>
          </p:nvCxnSpPr>
          <p:spPr>
            <a:xfrm flipV="1">
              <a:off x="4386960" y="2240280"/>
              <a:ext cx="2880" cy="161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443" name="_s2056"/>
            <p:cNvSpPr/>
            <p:nvPr/>
          </p:nvSpPr>
          <p:spPr>
            <a:xfrm>
              <a:off x="2491200" y="1656360"/>
              <a:ext cx="3791880" cy="58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5b5249"/>
                  </a:solidFill>
                  <a:latin typeface="Arial"/>
                </a:rPr>
                <a:t>Water Power Limited</a:t>
              </a:r>
              <a:endParaRPr b="0" lang="en-US" sz="31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41" name="_s2057"/>
            <p:cNvSpPr/>
            <p:nvPr/>
          </p:nvSpPr>
          <p:spPr>
            <a:xfrm>
              <a:off x="3328200" y="2402640"/>
              <a:ext cx="2117880" cy="94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5b5249"/>
                  </a:solidFill>
                  <a:latin typeface="Arial"/>
                </a:rPr>
                <a:t>Turn to Coal </a:t>
              </a:r>
              <a:endParaRPr b="0" lang="en-US" sz="27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5b5249"/>
                  </a:solidFill>
                  <a:latin typeface="Arial"/>
                </a:rPr>
                <a:t>&amp; Steam</a:t>
              </a:r>
              <a:r>
                <a:rPr b="0" lang="en-US" sz="2700" spc="-1" strike="noStrike">
                  <a:solidFill>
                    <a:srgbClr val="5b5249"/>
                  </a:solidFill>
                  <a:latin typeface="Arial"/>
                </a:rPr>
                <a:t>	</a:t>
              </a:r>
              <a:endParaRPr b="0" lang="en-US" sz="27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9" name="_s2058"/>
            <p:cNvSpPr/>
            <p:nvPr/>
          </p:nvSpPr>
          <p:spPr>
            <a:xfrm>
              <a:off x="186480" y="3505320"/>
              <a:ext cx="3695040" cy="65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</a:rPr>
                <a:t>James Watt 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b5249"/>
                  </a:solidFill>
                  <a:latin typeface="Arial"/>
                </a:rPr>
                <a:t>Steam Engine 1769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7" name="_s2059"/>
            <p:cNvSpPr/>
            <p:nvPr/>
          </p:nvSpPr>
          <p:spPr>
            <a:xfrm>
              <a:off x="2350440" y="4320000"/>
              <a:ext cx="4112640" cy="72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5b5249"/>
                  </a:solidFill>
                  <a:latin typeface="Arial"/>
                </a:rPr>
                <a:t>1814 Steam Powered </a:t>
              </a:r>
              <a:endParaRPr b="0" lang="en-US" sz="21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5b5249"/>
                  </a:solidFill>
                  <a:latin typeface="Arial"/>
                </a:rPr>
                <a:t>Train to get more coal</a:t>
              </a:r>
              <a:endParaRPr b="0" lang="en-US" sz="21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36" name="_s2060"/>
            <p:cNvSpPr/>
            <p:nvPr/>
          </p:nvSpPr>
          <p:spPr>
            <a:xfrm>
              <a:off x="4723560" y="5206680"/>
              <a:ext cx="3864600" cy="92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5b5249"/>
                  </a:solidFill>
                  <a:latin typeface="Arial"/>
                </a:rPr>
                <a:t>Urbanization – </a:t>
              </a:r>
              <a:endParaRPr b="0" lang="en-US" sz="17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5b5249"/>
                  </a:solidFill>
                  <a:latin typeface="Arial"/>
                </a:rPr>
                <a:t>not have to be along </a:t>
              </a:r>
              <a:endParaRPr b="0" lang="en-US" sz="17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5b5249"/>
                  </a:solidFill>
                  <a:latin typeface="Arial"/>
                </a:rPr>
                <a:t>rivers any more</a:t>
              </a:r>
              <a:endParaRPr b="0" lang="en-US" sz="17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Oval 2"/>
          <p:cNvSpPr/>
          <p:nvPr/>
        </p:nvSpPr>
        <p:spPr>
          <a:xfrm>
            <a:off x="3505320" y="1600200"/>
            <a:ext cx="2438280" cy="2286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5" name="AutoShape 3"/>
          <p:cNvSpPr/>
          <p:nvPr/>
        </p:nvSpPr>
        <p:spPr>
          <a:xfrm>
            <a:off x="1409760" y="3809880"/>
            <a:ext cx="2095560" cy="457200"/>
          </a:xfrm>
          <a:prstGeom prst="borderCallout1">
            <a:avLst>
              <a:gd name="adj1" fmla="val 18750"/>
              <a:gd name="adj2" fmla="val -8333"/>
              <a:gd name="adj3" fmla="val -16666"/>
              <a:gd name="adj4" fmla="val 12545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Pol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6" name="AutoShape 4"/>
          <p:cNvSpPr/>
          <p:nvPr/>
        </p:nvSpPr>
        <p:spPr>
          <a:xfrm>
            <a:off x="1752480" y="4952880"/>
            <a:ext cx="129564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Board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7" name="AutoShape 5"/>
          <p:cNvSpPr/>
          <p:nvPr/>
        </p:nvSpPr>
        <p:spPr>
          <a:xfrm>
            <a:off x="3276720" y="5867280"/>
            <a:ext cx="91440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od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8" name="AutoShape 6"/>
          <p:cNvSpPr/>
          <p:nvPr/>
        </p:nvSpPr>
        <p:spPr>
          <a:xfrm>
            <a:off x="380880" y="5715000"/>
            <a:ext cx="1219320" cy="91440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ur discovers germ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9" name="AutoShape 7"/>
          <p:cNvSpPr/>
          <p:nvPr/>
        </p:nvSpPr>
        <p:spPr>
          <a:xfrm>
            <a:off x="6781680" y="800280"/>
            <a:ext cx="1600200" cy="118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29" y="20206"/>
                </a:moveTo>
                <a:lnTo>
                  <a:pt x="-1029" y="2090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Labor Forc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ldren &amp; wome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0" name="AutoShape 8"/>
          <p:cNvSpPr/>
          <p:nvPr/>
        </p:nvSpPr>
        <p:spPr>
          <a:xfrm>
            <a:off x="7086600" y="2743200"/>
            <a:ext cx="914400" cy="60948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Union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1" name="AutoShape 9"/>
          <p:cNvSpPr/>
          <p:nvPr/>
        </p:nvSpPr>
        <p:spPr>
          <a:xfrm>
            <a:off x="6019920" y="3809880"/>
            <a:ext cx="99036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 Ac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2" name="AutoShape 10"/>
          <p:cNvSpPr/>
          <p:nvPr/>
        </p:nvSpPr>
        <p:spPr>
          <a:xfrm>
            <a:off x="4495680" y="533520"/>
            <a:ext cx="1600200" cy="60948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inism (suffrage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3" name="AutoShape 11"/>
          <p:cNvSpPr/>
          <p:nvPr/>
        </p:nvSpPr>
        <p:spPr>
          <a:xfrm>
            <a:off x="6553080" y="5181480"/>
            <a:ext cx="144792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737" y="-64800"/>
                </a:moveTo>
                <a:lnTo>
                  <a:pt x="22737" y="2314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es Dickens/ Karl Marx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4" name="AutoShape 12"/>
          <p:cNvSpPr/>
          <p:nvPr/>
        </p:nvSpPr>
        <p:spPr>
          <a:xfrm flipH="1">
            <a:off x="4572000" y="4952880"/>
            <a:ext cx="1447920" cy="8384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48 Revolution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7:27:02Z</dcterms:created>
  <dc:creator>IT</dc:creator>
  <dc:description/>
  <dc:language>en-US</dc:language>
  <cp:lastModifiedBy>Windows User</cp:lastModifiedBy>
  <cp:lastPrinted>2014-07-25T17:55:02Z</cp:lastPrinted>
  <dcterms:modified xsi:type="dcterms:W3CDTF">2015-06-26T11:26:53Z</dcterms:modified>
  <cp:revision>105</cp:revision>
  <dc:subject/>
  <dc:title>1750-1914</dc:title>
</cp:coreProperties>
</file>